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E7C-2699-453A-8736-846CF331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13D-055B-4420-9A21-8A6ECF91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F18-0889-46B2-98A1-549F2540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0AC-25B0-4343-9EBE-E0A11BC2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199-EAE6-4035-819D-B067353E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81F-80C5-4191-91C5-417FCEE7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AC8-4F03-46BC-9C4A-22C0C0CF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909-1C44-414F-8918-D330EA97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3F9-5AE6-4F05-9263-EB7E4952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0A2-3799-4A2B-AD98-CFB5422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C1F-A08E-4403-9D2C-720F151E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1C8-C236-4888-9D8A-64ACCD30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51D8-3096-4FB6-953F-0CA1F58DCE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3/Pol-landschap-2010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e partij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1 Kies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2 Soorten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f en passief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Nederlanders van achttien jaar en ouder hebben actief en pass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t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te mogen stemmen.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s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je verkiesbaar te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 de vier jaar kiezen de burgers van Nederland de nieuwe led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Tweede Ka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Provinciale Sta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Gemeentera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naast zijn er elke vijf jaar verkiezingen voor he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uropees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politieke partij bestaat ui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en groep mensen met ongeveer dezelfde ideeën over hoe de samenleving eruit zou moeten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 van politiek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eke partijen proberen op allerlei manieren invloed uit te oefenen op het beleid van de overhe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brengen hu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standpun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oortdurend naar v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ertegenwoordi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ak de belangen van maatschappelijke organisaties en bepaalde groepen in de maatschappij. (VVD komt op voor de werkgevers en de SP voor de werknemer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leveren mense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oor politieke fun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(Ministers, burgemeesters, Kamerl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beïnvloe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in politieke functies. Partijen hebben veel contact met hun eigen Kamerleden, gemeenteraadsleden, ministers, leden van het Europees parlement en Burgemee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79440" y="985680"/>
            <a:ext cx="820728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rogressief of conservat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gressief (vooruitstrev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verandering. Je wilt de samenleving beter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servatief (behoud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, links of m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 (Vrij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elf hun verantwoordelijkheid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ssi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n, zich zo min mogelijk bemoeien met het dagelijks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ven en d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nks (Gelijk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n i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zijn, zich inzet voor de mensen in de samenle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26920" y="620640"/>
            <a:ext cx="79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Sam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mensen moeten het samen met de overheid doen. Sommige partijen hebben dus zowel linkse als rechtse standpunten. De overheid heeft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anvullen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Bestand:Pol-landschap-2010.gif">
            <a:hlinkClick r:id="rId1"/>
          </p:cNvPr>
          <p:cNvPicPr/>
          <p:nvPr/>
        </p:nvPicPr>
        <p:blipFill>
          <a:blip r:embed="rId2"/>
          <a:srcRect l="0" t="0" r="0" b="1638"/>
          <a:stretch/>
        </p:blipFill>
        <p:spPr>
          <a:xfrm>
            <a:off x="395280" y="1989000"/>
            <a:ext cx="4535640" cy="446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atrix-Politieke-Partijen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Ole de Vos</cp:lastModifiedBy>
  <dcterms:modified xsi:type="dcterms:W3CDTF">2016-02-18T09:59:38Z</dcterms:modified>
  <cp:revision>71</cp:revision>
  <dc:subject/>
  <dc:title>Dia 1</dc:title>
</cp:coreProperties>
</file>