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943-C68B-4EF7-A72C-FA658FC8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483-8D13-4CF1-B42B-AEFB3C88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628-D58A-4AB8-9995-82CE617F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7C3-513B-4C8B-A605-340332D2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8E4-35D4-4FBC-8733-1C5EE3D8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2A0-C803-46A3-BA77-711E6679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941-48FF-4AE9-9054-E8B501F6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63E-585A-4BE1-8D73-AB935A81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4FF-A41E-4130-B0AE-53E8CC3F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F0E-6819-445B-BBC7-1BABFD7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8C9-A22A-4A79-8D64-F128CC7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533-7768-4B56-AE4C-2CE5FD6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F0EF-7695-466A-B84D-0EF9499F2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youtube.com/watch?v=2od1KTX0SoI&amp;feature=related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1Hw3av8gjg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Het beleid van de overhei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beleid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85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t kan de overheid doen om het aantal misdrijven omlaag te breng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4464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Beleid tegen crimin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terugdringen van criminaliteit is in principe e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weesporenbelei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Preven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voorko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Repre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bestraff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789360"/>
            <a:ext cx="777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overheden spelen hier een 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stellen wetten + bespreken van andere oplossin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meent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meester is verantwoordelijk voor de openbare orde en veiligheid. Hij is het hoofd van de poli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ustitie bestaat uit het O.M. (Openbaar Ministerie), officier van justitie en politi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fficier van justitie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antwoordelijk voor opsporing en vervol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27640" y="2060640"/>
            <a:ext cx="2232000" cy="221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leidsdaden van d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leid van de overheid wat zich richt tegen criminaliteit is binnen het tweesporen beleid op te splitsen in zes onderde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220920"/>
            <a:ext cx="7777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. Opspor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richt zich de laatste jaren vooral op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ware 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iligheid en t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79736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volgingsbeleid = op welke manier wil de overheid misdrijven bestraff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elrecht (= lik op stuk beleid) bij b.v. voetbalvand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staan van softdrugs (= gedoogbel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204" t="0" r="4368" b="3704"/>
          <a:stretch/>
        </p:blipFill>
        <p:spPr>
          <a:xfrm>
            <a:off x="5148360" y="1773360"/>
            <a:ext cx="3024000" cy="25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76280"/>
            <a:ext cx="792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 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op preventie (= voorkoming) en geldt vooral bv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vandalisme, winkeldiefstal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l: Overlast op straat met 25% verminder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al werk- en/of leerstraffen worden toegepa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1519200" cy="18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959280" y="2708280"/>
            <a:ext cx="51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nk aan: vrouwenhandel, drugshandel, helin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hier op repressie. (= bestraffing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eurbestrij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rijding van bv. aanslagen en vliegtuigkaping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el: verruiming van bevoegdheden van politie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echaussee. (bv arrestatiemogelijkheid bij ver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cht gedra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2156040" cy="230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900000" y="5373720"/>
            <a:ext cx="395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Wil de overheid ons waarschuwen, opvoeden of indoctrineren of zijn wij echt met z’n allen ver-antwoordelijk voor onze veilighei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734080"/>
            <a:ext cx="86508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94172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76280"/>
            <a:ext cx="792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.  Gevangeni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cell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bepaalde gevallen meer mensen in één c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2737080" cy="182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611280" y="1557360"/>
            <a:ext cx="7920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.  Nieuwe wetge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tboek  van Strafrecht moet regelmatig word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gepast aan de actualite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nieuwe wetgeving zal de overheid zich altijd afvragen of nieuwe maatregelen voldoende het gewenste effect opleve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nselijk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stelt zich de vraag of nieuwe maatregelen passen bij de waarden en normen van dit moment. De visie van burgers en politiek is dus van bela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4292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.  Preventiebelei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zie hoofdstuk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4797360"/>
            <a:ext cx="5327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6.  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rpunten op het gebied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toezi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enp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43700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4581360"/>
            <a:ext cx="1942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kijk het filmpje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ver jeugddetent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Kan zijn dat er eerst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en reclamefilmpje komt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25T16:58:44Z</dcterms:modified>
  <cp:revision>56</cp:revision>
  <dc:subject/>
  <dc:title>Dia 1</dc:title>
</cp:coreProperties>
</file>