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ABB-BA27-4BAA-B5CA-337775BE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C39-2650-40F4-915C-F0C2C71D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7EB-D98F-4D28-9E18-E75A3471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55B-D2CF-46A3-B056-6C4981CC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BF3-70F8-4A4E-9522-125568D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E16-0AB5-4502-B31D-80A57AB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D10-7185-4527-9FF0-B10900A0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227-6078-4B7C-8119-7EDEE409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1BB-27D4-42E1-9AC5-621A4C9B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66A-0319-43F7-BB51-91DD8B7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93E-6560-46C7-8A8F-685ACB2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C7D-6648-421D-8FAB-5A0DEA3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813C-FB2D-48A5-A7E9-8D069D744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reventi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532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lke maatregelen kunnen we nemen om criminaliteit te voorkom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ve maatregelen kunnen worden genomen do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okal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777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andelijk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hiervoor hoofdstuk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erpunten in het beleid zijn naast het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hoofdstuk 9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lichting inbraakpreventie vooraf aan vakantieperiod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ispijbelbe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777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okal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g naast de mogelijkheden die de landelijke wetgeving geeft onder bepaalde voorwaarden ook b.v preventief fouilleren, een blowverbod instellen voor een bepaald gebied ter bestrijding van overlast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2240" y="1916280"/>
            <a:ext cx="2291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preventie maatregelen zijn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ciale control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e controle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betering woonomg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ttige woonomgeving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LT-bureau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T (= Het Alternatief) richt zich op minderjarige daders bij lichte overtredingen of lichte misdrijven.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(taak)straf dient altijd in relatie te staan met de overtreding of het misdrijf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 krijgt notitie in strafbl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14972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drijven en bur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 en burgers kunnen zel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preventieve maatregelen nem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vandalisme en inbraak te voorkom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3568" r="2808" b="5045"/>
          <a:stretch/>
        </p:blipFill>
        <p:spPr>
          <a:xfrm>
            <a:off x="5867280" y="692280"/>
            <a:ext cx="2665440" cy="15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2920" b="0"/>
          <a:stretch/>
        </p:blipFill>
        <p:spPr>
          <a:xfrm>
            <a:off x="1042920" y="4149720"/>
            <a:ext cx="2376720" cy="198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3-13T08:50:25Z</dcterms:modified>
  <cp:revision>60</cp:revision>
  <dc:subject/>
  <dc:title>Dia 1</dc:title>
</cp:coreProperties>
</file>