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CD9F-B147-4B26-A5FF-9B340CD99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6656-A97A-4464-8246-7BC3804B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1F53-7DC0-43D7-A4A5-90CF21FC6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DD95-1038-42C5-A882-15E600D7A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D5A8-6944-4D66-BBEA-E0F5197F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DC7C-BDC1-4ACC-AA19-4D14C043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3127-472E-48FD-964E-5AF700DF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AED5-CAFB-427D-A8E0-2FE2A7BA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7A3F-4C2E-443C-A108-656468B1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0E03-A7E9-48E0-BB98-8F4B54E8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0180-BBFD-4A6A-A91C-FBD7A731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2166-B03C-4545-9EB5-C8AF939F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8C07-CFC5-43B5-BBE0-CC210A728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de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Knelpunten in de politi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1628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852640"/>
            <a:ext cx="70581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58920" y="3357720"/>
            <a:ext cx="7416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08360" y="4653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71640" y="3933720"/>
            <a:ext cx="244944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95280" y="836640"/>
            <a:ext cx="8209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rale vraa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dit hoofdstuk staat de vraag centraa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Wat zijn de knelpunten in de politiek en wat kunnen we er aan doen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395280" y="1916280"/>
            <a:ext cx="8137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nelpunt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‘afstand’  tussen de burgers en de politiek en politici is groot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orzaak zijn een aantal knelpunte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395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nelpunten in de politi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468360" y="2852640"/>
            <a:ext cx="8137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134784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Macht bij min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t parlement is door de burgers gekoz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 zou dus vanuit democratisch oogpu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meeste macht moeten hebben. O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pier klopt het. In de praktijk zijn het t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ak de ministe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539640" y="4653000"/>
            <a:ext cx="8137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1347840"/>
                <a:tab algn="l" pos="3497400"/>
                <a:tab algn="l" pos="385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Regeerakkoord is bepalen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t regeerakkoord tussen de regerend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jen is in de praktijk bepalend. Discussi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 onderwerpen die in dit akkoord staa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eft vaak weinig zin daar het besluit eigen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jk al vast staa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4360" y="3068640"/>
            <a:ext cx="2993760" cy="3097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0"/>
          <p:cNvSpPr/>
          <p:nvPr/>
        </p:nvSpPr>
        <p:spPr>
          <a:xfrm>
            <a:off x="395280" y="476280"/>
            <a:ext cx="7993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"/>
              <a:tabLst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Tegen de wil van het volk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parlement en/of de regering nemen beslissingen waar de meerderheid van het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lk het waarschijnlijk niet mee eens is. (b.v. deelname van Nederlandse militair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an de oorlog in Afghanistan)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"/>
              <a:tabLst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95280" y="1628640"/>
            <a:ext cx="799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"/>
              <a:tabLst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roblemen moeilijk oplosbaar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at de regering ook doet niet alles is makkelijk oplosbaar. Denk aan milieuproble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atiek, het fileprobleem en de zeer hoge inkomens van sommige bestuurders/di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ecteu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395280" y="2708280"/>
            <a:ext cx="799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"/>
              <a:tabLst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Weinig vertrouwen in de politiek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oor ingewikkelde regelgeving en bureaucratie (=  zaken moet met veel formu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ieren, via veel instanties en dus lange wachttijden geregeld worden) is er weinig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ertrouwen in de politie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4360" y="4005360"/>
            <a:ext cx="2519280" cy="2361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2" name="Text Box 10"/>
          <p:cNvSpPr/>
          <p:nvPr/>
        </p:nvSpPr>
        <p:spPr>
          <a:xfrm>
            <a:off x="0" y="3933720"/>
            <a:ext cx="8137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1347840"/>
                <a:tab algn="l" pos="3497400"/>
                <a:tab algn="l" pos="385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uropa bepaal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eds meer zaken worden op Europe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veau beslist. Het Nederlandse parlemen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 de regering moeten zich hier aan houden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burger krijgt zo het gevoel dat de politiek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m/haar niet serieus neem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468360" y="476280"/>
            <a:ext cx="813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beteri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or een democratie is belangrijk dat mensen betrokken zijn bij de politie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e verbeter je het democratisch proces?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468360" y="1413000"/>
            <a:ext cx="79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"/>
              <a:tabLst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erendum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= burgers vragen over hun mening over een bepaald onderwerp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468360" y="2060640"/>
            <a:ext cx="799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71424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Voordelen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iezers hebben directe invloed op het besluit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 heeft bij aanvaarding steun van veel mensen (= draagval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468360" y="2852640"/>
            <a:ext cx="799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71424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adelen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sluitvorming duurt langer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itici staan (tijdelijk) buiten spel. Aantasting van hun positie en aanzie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derwerpen waarover moet worden besloten zijn vaak moeilijk 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gewikkeld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t leidt tot te simpele keuz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03640" y="4076640"/>
            <a:ext cx="3095640" cy="206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1" name="Text Box 10"/>
          <p:cNvSpPr/>
          <p:nvPr/>
        </p:nvSpPr>
        <p:spPr>
          <a:xfrm>
            <a:off x="539640" y="4508640"/>
            <a:ext cx="799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71424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 Nederland werd op 1 juni 2005 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71424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aadgevend referendum gehouden over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 vraag of er een Europese grondwet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oest komen.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61,5% van de kiezers bleek tegen te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ebben gestem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468360" y="476280"/>
            <a:ext cx="813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mpli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nsen wettelijk verplichten bij verkiezingen hun stem uit te brengen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468360" y="1052640"/>
            <a:ext cx="799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"/>
              <a:tabLst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Regionale kandidaatstelling verplichten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nneer een Tweede Kamerlid uit de eigen omgeving komt is heeft hij meer kan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 mensen hem/haar kennen en dit kan de betrokkenheid van de burger bij d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itiek vergroten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o’n Kamerlid die in een landelijk parlement wordt gekozen voelt zich verplicht o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or de belangen van zijn regio op te komen. (zowel voordeel als nade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468360" y="2708280"/>
            <a:ext cx="799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424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Door het volk gekozen minister-president en burgemeester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kozen bestuurders staan dichter bij het vol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t Nederlandse politieke systeem is moeilijk te combineren met een gekoz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-presid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468360" y="3860640"/>
            <a:ext cx="7993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424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regulere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der laten beslissen door de rijksoverheid en meer door de lagere overheden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= gemeente en provincie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t kan leiden tot meer maatwerk (voordeel) en verschillende regelgeving p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meente (nadeel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468360" y="5300640"/>
            <a:ext cx="799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424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er bevoegdheden voor ‘t parle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der vooraf vastleggen in het regeerakkoord en parlement meer lat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slissen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merleden laten ondersteunen door ambtenaren en deskundig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468360" y="1052640"/>
            <a:ext cx="799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"/>
              <a:tabLst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onale kandidaatstelling verplichten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nneer een Tweede Kamerlid uit de eigen omgeving komt is heeft hij meer kan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 mensen hem/haar kennen en dit kan de betrokkenheid van de burger bij d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itiek vergroten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o’n Kamerlid die in een landelijk parlement wordt gekozen voelt zich verplicht o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or de belangen van zijn regio op te komen. (zowel voordeel als nade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468360" y="2708280"/>
            <a:ext cx="799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424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or het volk gekozen minister-president en burgemeester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kozen bestuurders staan dichter bij het vol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t Nederlandse politieke systeem is moeilijk te combineren met een gekoz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-presid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25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25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25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07:09Z</dcterms:created>
  <dc:creator>jan van gils</dc:creator>
  <dc:description/>
  <dc:language>en-US</dc:language>
  <cp:lastModifiedBy>jan van gils</cp:lastModifiedBy>
  <dcterms:modified xsi:type="dcterms:W3CDTF">2012-12-26T16:22:00Z</dcterms:modified>
  <cp:revision>52</cp:revision>
  <dc:subject/>
  <dc:title>Dia 1</dc:title>
</cp:coreProperties>
</file>