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CC3-FC7C-403B-BD9E-44398DF6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70D-6D7D-4513-A430-A31CC9B4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878-CAAE-41AC-9E0B-785AB9C9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9B2-3AFC-48FC-BEC6-A984EB96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A65-6D55-4087-A6B3-ADF39A73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D07-EFE7-447A-8595-113BD6F0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9EA-48A9-4C7E-9600-A40038C2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B76-C228-4A98-90EF-35882E6C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A56-9CD7-4817-B667-DE094154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E38-B657-4AB3-BA1E-D2F625E3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462-8E9E-4059-85FE-8A37D48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75A-A6BF-49CF-9EB2-11686DD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15B3-459F-4D56-A901-8FAAD778D4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76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Nederland; rechts-staat en democ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3876840"/>
            <a:ext cx="2090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981000"/>
            <a:ext cx="345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staa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staat waarin de overheid is ge-bonden aan wettelijke regels die door het parlement zijn goedge-keu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atvorm waarbij alle burgers in-vloed hebben op de besluitvor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95280" y="3068640"/>
            <a:ext cx="84978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rechtsstaa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is gelijk voor de we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inwoners hebben op de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lfde manier invloed op d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aag hoe het land moet wor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n geregeerd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onafhankelijke rechterlijke mach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grondwet die aangeeft hoe burgers en overheid met elkaar moeten omg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derland; rechtsstaat en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4895640" cy="3106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468360" y="515772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en en plicht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 burger heeft rechten. Het recht geeft aan wat je mag doen. (b.v. vrijheid v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ingsuiting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 burger heeft plichten. (b.v. belasting betal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8000" y="549360"/>
            <a:ext cx="396072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(In)directe democ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Directe democr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tekent dat via het uitbrengen van stemmen door alle burgers van een land, besluiten worden genomen (= referendum) In de praktijk las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om hebben wij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directe democr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Wij kiezen mensen in b.v. de gemeenteraad en de Tweede Kamer die namens ons beslissingen nemen over allerlei za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95280" y="3645000"/>
            <a:ext cx="8497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parlementaire 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at namens het volk beslis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rlement ontstaat door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rije en geheime verkiezin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alleen jij beslist waar je op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emt en niemand kan weten waar jij op stemt als jij dat niet geheim wil houden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nafhankelijke rechterlijke mach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ondwe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ie aangeeft hoe burgers en overheid met elkaar moeten omg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wat de politici wel en niet mog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regering moet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antwoording afleg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aan het parlemen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wordt beslist met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meerderheid van stemm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hebb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ondrecht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Trias-politica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s van toepass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68360" y="549360"/>
            <a:ext cx="8497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gers van 18 jaar en ouder hebben passie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act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68360" y="162864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cht om gekozen te mogen word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242100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ef kiesre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cht om te mogen kiez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43477" b="0"/>
          <a:stretch/>
        </p:blipFill>
        <p:spPr>
          <a:xfrm>
            <a:off x="5003640" y="692280"/>
            <a:ext cx="3672000" cy="4286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468360" y="5516640"/>
            <a:ext cx="35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rias-politica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powerpoint bij hoofdstuk 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1-23T11:57:04Z</dcterms:modified>
  <cp:revision>37</cp:revision>
  <dc:subject/>
  <dc:title>Dia 1</dc:title>
</cp:coreProperties>
</file>