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167-99F0-4653-852A-58BD453B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5B6-0184-425B-85E1-8965D075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698-7D9E-4F07-85F3-20530992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940-49F4-4548-8F5A-FC2964E3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1B2E-2B5A-4D9D-9579-9E3FCA22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AEE-0D47-4622-8E45-FB716AAB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263-61D9-49F6-BD6F-7ADC1209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46F-954C-415B-BE50-413008E3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77F-4D6C-4496-B8DE-94E3AB54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E1A-210C-4919-B7F6-0406825C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E846-AF58-4E82-AD80-F69A3467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D71F-9A1A-4C25-A842-32F83744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A622-84C3-4CAB-9C43-1006B0B93B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gemeente en de provi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067200" cy="2171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345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 Rij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andelijke overheid (= het Rijk) laat uitvoering van een deel van het beleid over aan lagere overheden (= gemeenten en provinci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2276640"/>
            <a:ext cx="35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vinc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s vooral bezig met ruimtelijke orde-ning en het milie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meente en provin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95280" y="321300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nciaal bestu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11640" y="1052640"/>
            <a:ext cx="4629240" cy="2600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395280" y="3500280"/>
            <a:ext cx="842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vinciale Staten (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 de vier jaren gaan de burgers va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 jaar en ouder naar de stembus om de Provinciale Staten (PS) te kiezen. (= het parlement van de provincie).  Aantal leden van de PS hangt af van het aantal inwoners. In Brabant zijn er dat 55. Taak: het controleren van de Gedeputeerde St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95280" y="486900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edeputeerde Staten (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dt samengesteld door PS. Uitvoerende macht van de provincie. Taak vergelijkbaar met de reger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95280" y="573408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Commissaris van de Koningin (Cvd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ordt benoemd door de Koningin die goed luistert naar wat de PS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 iemand wil. De CvdK is de voorzitter van GS en 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76360" y="3645000"/>
            <a:ext cx="39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derlanders van 18 jaar en o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48436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99564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2130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e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32130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e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2708280"/>
            <a:ext cx="273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20364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78000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23493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lt s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8000" y="23493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     controle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1844640"/>
            <a:ext cx="2953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deputeerde St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003640" y="292428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00720" y="2565360"/>
            <a:ext cx="259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mt provinciale besluiten en controleert Gedeputeerde Staten  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est de Eerst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003640" y="198900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64360" y="1557360"/>
            <a:ext cx="28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gelijks bestuur provincie. Bereidt besluiten voor en voert ze ui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765000"/>
            <a:ext cx="3311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ssaris van de Koningin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eet in Limburg “Gouverneur”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186920" y="112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1125360"/>
            <a:ext cx="0" cy="179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29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2060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41300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orzitter v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219640" y="98100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64360" y="189000"/>
            <a:ext cx="287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oemt door de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ningin op voordracht v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Min. Van Binnenland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867280" y="4149720"/>
            <a:ext cx="2216160" cy="2406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5640" y="4365720"/>
            <a:ext cx="2801880" cy="1869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708360" y="5229360"/>
            <a:ext cx="331164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00720" y="50846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ag v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89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ncie in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692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ak Provi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341360"/>
            <a:ext cx="8136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provincie heeft tot taak streekplannen te maken, ze uit te (laten) voeren en te zorgen voor het milie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reekplannen gaan over de inrichting van de provinci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 komen recreatiegebied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 industri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 beschermde natuurgebied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gemeenten mogen veel nieuwbouw woningen neerzetten 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bij na nie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derhoud van het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vinciale wegen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sluiten van de provincie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gen nooit in strijd zijn met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tten en besluiten op rijks-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veau (= landelijk nivea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24360" y="3573360"/>
            <a:ext cx="49528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42920" y="3645000"/>
            <a:ext cx="4394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derlanders van 18 jaar en ouder en niet-Nederlanders van 18 jaar en ouder die langer dan 5 jaar aaneengesloten legaal in ons land verblijv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48436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9564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32130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e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32130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e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2708280"/>
            <a:ext cx="273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70036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28472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5640" y="2276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lt  s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2276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        controle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1557360"/>
            <a:ext cx="2953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llege van Burgemees-ter en Wethou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003640" y="292428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2565360"/>
            <a:ext cx="284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eemt gemeentelijke beslui-ten en controleert het college van Burgemeester en Wethou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003640" y="198900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64360" y="1557360"/>
            <a:ext cx="28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gelijks bestuur gemeente. Bereidt besluiten voor en voert ze ui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3640" y="836640"/>
            <a:ext cx="3311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geme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112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1125360"/>
            <a:ext cx="0" cy="179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29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2060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41300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orzitter v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19640" y="98100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64360" y="189000"/>
            <a:ext cx="287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oemd door de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ningin op voordracht v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Min. Van Binnenland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89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meente in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65248"/>
          <a:stretch/>
        </p:blipFill>
        <p:spPr>
          <a:xfrm>
            <a:off x="1763640" y="5300640"/>
            <a:ext cx="55436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627280" y="549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ak Geme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98100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gemeente heeft tot taak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voeren van wetten en maatregelen va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ijksoverhe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gelen van de gemeentelijke financien 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innen van gemeentelijke belasting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ststellen van het bestemmingsplan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= Wat mag waar gebouwd word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en voor de openbare orde en veilighe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schaffen van paspoort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4221000"/>
            <a:ext cx="6404040" cy="2159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41333" t="22047" r="32688" b="11803"/>
          <a:stretch/>
        </p:blipFill>
        <p:spPr>
          <a:xfrm>
            <a:off x="468360" y="620640"/>
            <a:ext cx="158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2-12-26T16:19:16Z</dcterms:modified>
  <cp:revision>44</cp:revision>
  <dc:subject/>
  <dc:title>Dia 1</dc:title>
</cp:coreProperties>
</file>