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1D1-3266-472F-982A-098C3008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BCF-0937-454A-B3DF-6FC72C6E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905-13C6-42BF-A48C-4C4CAB68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02E-B84A-4374-B1EE-088218A3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220-C583-49AD-AB76-22FC1F6F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E4C-7D7F-4A66-8F8F-F544A448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573-400A-4C56-8E2E-CAE7E046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AC3-13A1-462D-B07E-DCEE635A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600-1AFA-40D6-A547-8B655F45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809-EA49-4506-9064-A84FD4C5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262-C2C8-4E9D-A3B4-DEEEA5D6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5E4-422C-4008-AD1C-6C8E9E84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AEDA-6BE7-427E-8F7D-17C3C3C23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Ons beeld van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criminalitei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0028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94172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167280" cy="2313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s beeld van crimin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197000"/>
            <a:ext cx="85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e betrouwbaar is ons beeld van criminaliteit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egenomen gevoelens van onveiligheid omdat media veel aandacht besteden aan criminalite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it: Inbraken, diefstal en fraude komen meer voor dan geweldsmisdrij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924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te invloed van d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940360" y="2852640"/>
            <a:ext cx="2505240" cy="32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11280" y="328464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ia kunnen beeldvorming lat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tstaan. Een aantal Marokkanen zij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rimineel dus alle Marokkanen zijn cri-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neel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= voorbeeld van stereoty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65300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ggen de media vaak dat we strenge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eten straffen dan neemt een groo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el van de bevolking dit over. (= pu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ieke opi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4936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eken brengen criminaliteit in 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29264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lachtofferenquêt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S vraagt mensen of ze slachtoffer zijn gewe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uit blijkt dat er meer delicten zijn dan wat blijkt uit politiestatistie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3737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derenquêt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S vraagt mensen of ze dader zijn gewe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rouwbaarheid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98100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al Bureau van de Statistiek (CBS) maakt gebruik v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41300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Politiestatistiek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litiestatistieken geven geen betrouwbaar beeld van criminaliteit omdat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giftebereidheid van slachtoffers en instanties niet altijd even groo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alle delicten worden ontdek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sporingsbeleid van politie heeft invloed op ontdekte misdrijv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hoeveel tijd wordt er aan opsporing besteed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richt de politie zich al of niet op bepaalde (bevolkings)groep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istratie is mensenwerk; dus fouten worden gemaak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litiestatistieken moeten gekoppeld worden aan ontwikkeling va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vol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77336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aantal vermogensdelicten is sinds 1984 gedaal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206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oeten onderscheid maken tusse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ntal gepleegde misdrijven (= absolute cijfer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ntal gepleegde misdrijven per honderd inwoners (= percen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27664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weld is de laatste 20 jaar in Nederland toegeno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6000" y="3213000"/>
            <a:ext cx="61912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5T15:57:00Z</dcterms:modified>
  <cp:revision>39</cp:revision>
  <dc:subject/>
  <dc:title>Dia 1</dc:title>
</cp:coreProperties>
</file>