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283-DC2A-4B0A-B9B8-672B26DC0D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F18-BB72-4994-8F7E-A032B284D5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2CF-EA96-46A1-B655-5F9034587E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066-6A0C-4E8D-81AE-14ADECF43E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0B8-E173-4809-8D89-0549071E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5FB-636F-45C8-A6CC-F1D7A5D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F2F-3663-48D9-AB7D-A471631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C0F-395C-40A7-889F-47BA3FFC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C5D-91F3-4F1C-BD31-598BD722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9F-E847-4D97-8A72-2239A860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68C-D3E4-4691-BD5C-F93A79F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68C-1998-42C7-ACF3-B7F3335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144-1DAD-4002-8CE1-5255696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C81-5F2A-45B7-BE01-BE2A20F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12D-BAAA-477B-8DCE-1E42D3C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EBE-3116-4976-A140-F4B2FBD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627-17A3-4AA1-8F94-862230B197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Regels e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recht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5040" cy="19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 en 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le vormen van gedrag die volgens de wet strafbaar zij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2060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en rech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s en rechten zijn omschreven in wet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rondwet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grondwet staan de basisregels van onze democratie beschrev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e grondrechten als burgers en de manier waarop onze staat is ge-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ee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dere wett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ere wetten mogen nooit in strijd zijn met de grond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-  Wetboek van Strafre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Opium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genverkeers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 economische deli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55640" y="1125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anderen door de tijd he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omoseksualiteit strafbaar, nu niet mee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et inbreken in iemand anders zijn computer 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ar. Er bestonden immers geen computers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ntificatieplicht is er pas sinds 200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501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schillen per plaat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Nederland is het  homohuwelijk toegestaan maar in veel landen niet.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uurwapens zijn voor bijna iedereen in Nederland verboden in de V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het een grondrecht om een wapen te mogen bezitte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verboden-toegang_groot"/>
          <p:cNvPicPr/>
          <p:nvPr/>
        </p:nvPicPr>
        <p:blipFill>
          <a:blip r:embed="rId1"/>
          <a:stretch/>
        </p:blipFill>
        <p:spPr>
          <a:xfrm>
            <a:off x="2050920" y="2781360"/>
            <a:ext cx="4392720" cy="183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e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197000"/>
            <a:ext cx="777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at waarin de burgers worden be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md tegen machtsmisbruik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llekeur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derland is een rechtsstaat wa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n en plichten van de burger liggen vast in de (grond)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verheid zorgt voor rechtshandhaving en rechtsbescherm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een democratisch gekozen parleme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scheiding va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gev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uitvoer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echterlijke macht</a:t>
            </a:r>
            <a:br>
              <a:rPr sz="18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merking: In Nederland is de scheiding tussen wetgevende en uitvoerende macht niet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olledig doorgevoerd. Dit beperkt onze democratische rechten echter niet. Zie ook de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werPoint  ‘Staat en regering’.</a:t>
            </a:r>
            <a:br>
              <a:rPr sz="1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spraak opereert onafhankelijk van de over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rechtsstaat"/>
          <p:cNvPicPr/>
          <p:nvPr/>
        </p:nvPicPr>
        <p:blipFill>
          <a:blip r:embed="rId1"/>
          <a:srcRect l="14789" t="27624" r="12900" b="18081"/>
          <a:stretch/>
        </p:blipFill>
        <p:spPr>
          <a:xfrm>
            <a:off x="5003640" y="765000"/>
            <a:ext cx="3168720" cy="15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8:48:02Z</dcterms:modified>
  <cp:revision>45</cp:revision>
  <dc:subject/>
  <dc:title>Dia 1</dc:title>
</cp:coreProperties>
</file>