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D178-9B14-406F-AA93-8F81708C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9A1-92BB-41BF-AB62-04759C41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ABD0-9468-4A54-80A1-F5A9FEC2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85E0-4027-4188-8338-E6985E6B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DA41-9EEA-4395-8E6D-AB68C625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1A8B-6A7B-4BE2-A5F2-3A6543DC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7D5-FB43-4F75-B907-94DB5B3D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6B12-E5F9-42BA-9873-9CF100FD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0A95-E3FC-4312-8AD3-2FD76A2B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F84B-8074-4E2B-9C2F-115E6A83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5C2-CBFE-4145-944A-FA6BBAF0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17C1-546D-4250-9CB0-967D26A3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3C48-527B-410A-B026-96B3F07E311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Linkse en rechtse partije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n van inzichtvragen, di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el op het examen voorkom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begonnen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9420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424836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entrale vragen zijn:</a:t>
            </a:r>
            <a:br>
              <a:rPr sz="1600"/>
            </a:br>
            <a:r>
              <a:rPr b="1" lang="nl-NL" sz="1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“Wanneer noemen we een politieke partij rechts of links en conservatief of 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 progressief?”</a:t>
            </a:r>
            <a:br>
              <a:rPr sz="1600"/>
            </a:b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2.  “Welke politieke partijen zijn er in Nederlan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Voor een antwoord op vraag 2 zie de powerpoint van hoofdstuk 4 Parl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nkse en rechtse parti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2637000"/>
            <a:ext cx="820728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hts links conservatief progres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ht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 zo weinig mogelijk overheidsbemoeienis en zoveel mogelijk vrij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 dat de staat zich met veel dingen actief bemoeit want de zwakkere in d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nleving moeten worden beschermd. Zoveel mogelijk gelijkwaardigheid i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angrij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ervatie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moet zo weinig mogelijk veranderen. Wat is moet blij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ie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ven naar verand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Bestand:Pol-landschap-2010.gif"/>
          <p:cNvPicPr/>
          <p:nvPr/>
        </p:nvPicPr>
        <p:blipFill>
          <a:blip r:embed="rId1"/>
          <a:srcRect l="0" t="0" r="0" b="1638"/>
          <a:stretch/>
        </p:blipFill>
        <p:spPr>
          <a:xfrm>
            <a:off x="611280" y="549360"/>
            <a:ext cx="4319640" cy="424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059280" y="3141720"/>
            <a:ext cx="57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2205000"/>
            <a:ext cx="338328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ernaast zie je een schema hoe je de belangrijkste politieke partijen van Nederland kunt indelen in progressief, rechts, conservatief en link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t iedereen houdt eenzelfde verdeling aan. Sommigen zien de PVV als meer rechts-conservatief als op de afbeelding hiernaast en de VVD minder conservatief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is dus maar net hoe je tegen de zaken aankijkt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ie afbeelding op de volgende d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265800" cy="5630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Naam</cp:lastModifiedBy>
  <dcterms:modified xsi:type="dcterms:W3CDTF">2012-03-13T10:56:40Z</dcterms:modified>
  <cp:revision>64</cp:revision>
  <dc:subject/>
  <dc:title>Dia 1</dc:title>
</cp:coreProperties>
</file>