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043-7C1D-46D4-8631-40A85A4E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B8D-CC09-45C2-9D88-3A93681F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3F3-B101-491A-8715-6138918D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041-8947-4E7F-8147-F1333BEC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DAA-69DE-4FAB-A018-BB31A1DE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7A5-A2EB-4A89-A91E-EBD761DA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415-416C-475C-8FB7-BAE4FF9F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09C-A688-4171-A4BB-D45C5DE0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00A-DD37-4A74-A455-D3DBD851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ECC-405C-4616-BAE1-49C02141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A5E-8E25-4BF9-8D07-6A731DB3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E65-9559-44BF-B89A-A8A8BAD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E81D-681E-4C88-91D6-1B3B57779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50816_supportersgeweld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Van politie naar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offici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20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n politie naar offi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052640"/>
            <a:ext cx="8064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vraag van dit hoofdstuk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ke procedure moet worden gevolgd als er een strafbaar feit is geconsta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n van de pol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t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spor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nstverlening en adv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419640" y="4076640"/>
            <a:ext cx="554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heeft speciale bevoegdheden als het ga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het handhaven van de or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mand verplichten door te lop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eren op wettelijk verplichte papie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keu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en nodig geweld gebrui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1916280"/>
            <a:ext cx="1822680" cy="203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39640" y="549360"/>
            <a:ext cx="806472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weg wijzen, verloren kinderen opsporen enz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poringstaak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(bij strafbare feit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mand staande mogen houden (= naam en adres vragen)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uiller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houden (= arrest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houden (= in bureaucel opsluiten)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agleggen (bv. Van gestolen goed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szoeking d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s uur vasthouden voor verhoo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 2x drie dagen verlengd worden door de officier van justitie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g langer vasthouden kan met toestemming van de rechter-commi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ri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egdheden van de politie staan precies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mschreven om de rechten van de burger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besche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re feiten voorkomen zoals waarschuwen voor zakkenrollers maar ook fietsen grav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enstverlening en advie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vies geven hoe b.v. inbraak kan voorkom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keer regelen bij bv. een verkeersongelu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804000" y="1844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270828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inbreker wordt opgepakt en dan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97360"/>
            <a:ext cx="9352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653000"/>
            <a:ext cx="1224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lpofficier van 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4653000"/>
            <a:ext cx="1440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er-commiss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4797360"/>
            <a:ext cx="13687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661000"/>
            <a:ext cx="1657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uren + n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589720"/>
            <a:ext cx="1729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3 dagen + 3 da-gen verlen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5734080"/>
            <a:ext cx="1079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5734080"/>
            <a:ext cx="136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x 30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5157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52293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522936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6720" y="51577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4941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94172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50133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9337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h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2303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zeke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933720"/>
            <a:ext cx="2017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bewa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3933720"/>
            <a:ext cx="1979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vangenho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5672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3284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lang kun je vastgehouden wo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640" y="404640"/>
            <a:ext cx="80647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ier van justitie  (= openbare aankl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ekt namens de samenleving bewijzen tegen de verdachte (= openb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klager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t straf tegen de verdachte tijdens het proc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 officieren van justitie = Openbaar Ministerie (OM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dverantwoordelijke voor het OM is de Minister van Just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2928" t="0" r="22699" b="0"/>
          <a:stretch/>
        </p:blipFill>
        <p:spPr>
          <a:xfrm>
            <a:off x="468360" y="2852640"/>
            <a:ext cx="1946160" cy="245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50920" y="5300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Ivo Opstelten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Min. van Justitie (VV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997360"/>
            <a:ext cx="590544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tie constateert strafbaar feit en stelt een proces verbaal 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3573360"/>
            <a:ext cx="590400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.l.v. officier van justitie volgt opsporingsonderzoek door pol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4149720"/>
            <a:ext cx="50418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beslist of er een rechtszaak kom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357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4724280"/>
            <a:ext cx="439272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eist straf tijdens rechtsza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4508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300640"/>
            <a:ext cx="2449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hter doet ui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5877000"/>
            <a:ext cx="4897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zorgt dat straf wordt uitgevoer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5084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5661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2421000"/>
            <a:ext cx="30258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loop van een strafz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39640" y="549360"/>
            <a:ext cx="8064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 of niet naar d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en opsporingsonderzoek wordt een dossier aangeleg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ar aanleiding van het dossier zijn er drie mogelijkhe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pon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betekent dat er wordt afgezien van verdere rechtsvervol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ik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vindt geen verdere vervolging plaats wanneer de verdachte een bepaalde geldboete wil beta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vol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zaak komt voor de rech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3094200" cy="207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11280" y="429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4508640"/>
            <a:ext cx="2449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rechtsgang en wat er voor de rechter gebe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 naar het filmp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9T19:14:40Z</dcterms:modified>
  <cp:revision>51</cp:revision>
  <dc:subject/>
  <dc:title>Dia 1</dc:title>
</cp:coreProperties>
</file>