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86F-90B7-4787-B675-102B11EF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04B-9862-486F-ADA7-C2EDB316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74C-B1CE-4A0B-99E1-BA5A4874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D0C-98C7-4F07-8C9E-155CE5FB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749-6F8A-4A5A-B3B7-00090751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0F1-C389-4C90-AB34-3119467C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6F8-5546-42FB-8301-A3C4E34A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CAA-3483-49F9-900C-0F4577C3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924-12D6-4FF4-A863-103ACEFA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CB1-CC37-41CE-A9AC-11494C8C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E11-BF4E-45F0-BE94-E51789EA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FDB-4523-463D-8C65-877B5C59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B38F-7419-4D7E-82BC-CD9DE991DA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Oorzaken van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criminalitei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21300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508464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2064" t="8099" r="6304" b="10894"/>
          <a:stretch/>
        </p:blipFill>
        <p:spPr>
          <a:xfrm>
            <a:off x="468360" y="4221000"/>
            <a:ext cx="388764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orzaken van crimi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777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e komt het dat sommige mensen crimineel worden en anderen ni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en (19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d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euw)  :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riminaliteit is aangeboren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                         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edrag van het individu los zien van and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maatschappelijk verschijns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28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 worden crimine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eslach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ongens meer dan meisjes (zie hoofdstuk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64500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eeftij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eel tussen 16 en 23 ja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Zware criminalite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volwass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437000"/>
            <a:ext cx="835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aatschappelijke positi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lage maatschappelijke posit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inbraak en agressieve delic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hoge maatschappelijke posit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witteboordencriminalite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etnische afkomst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oorzaak criminaliteit vaak een combinatie van leeftijd en lage maatschap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pelijke positie (verschil in opvoeding jongens en meisjes komt vo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692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el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1374" r="0" b="11374"/>
          <a:stretch/>
        </p:blipFill>
        <p:spPr>
          <a:xfrm>
            <a:off x="5796000" y="3141720"/>
            <a:ext cx="2830320" cy="309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692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el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13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roepsdru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ineel gedrag kan status geven in de groep.</a:t>
            </a:r>
            <a:br>
              <a:rPr sz="18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989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angeboren en aangeleerde eigenschapp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Criminaliteit is meestal aangeleerd (opvoeding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Soms kunnen ook karaktereigenschappen crimineel gedrag bevorderen</a:t>
            </a:r>
            <a:br>
              <a:rPr sz="18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852640"/>
            <a:ext cx="835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Opvoed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waarlozing, mishandeling kunnen leid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 psychische problemen en/of gedrag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oornissen wat kans op crimineel gedrag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t toenemen. </a:t>
            </a:r>
            <a:br>
              <a:rPr sz="4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221000"/>
            <a:ext cx="835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Alcohol en drugs</a:t>
            </a:r>
            <a:br>
              <a:rPr sz="1800"/>
            </a:b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genomen gebruik leidt tot meer geweld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drijv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bij veel gebruik nemen remmingen af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76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41300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rmvervag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der binding (familie), werkeloosheid, niet naar school gaan leiden t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niet (meer) accepteren van de normen van de samenleving wat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inaliteit bevordert. 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565360"/>
            <a:ext cx="8353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inder sociale control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individualisering (ik-cultuur) van de samenleving staat minder sociale con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ole (= letten op elkaar) to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veel mensen bij elkaar (b.v. flats in grote steden) leidt tot anonimiteit (= el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ar niet kennen) zodat mensen minder op elkaar letten en zich minde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antwoordelijk voelen voor elkaa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der sociale control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agere pakkan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meer gelegenheid tot crimi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liteit</a:t>
            </a:r>
            <a:r>
              <a:rPr b="0" lang="nl-NL" sz="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= gelegenheidsmot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797360"/>
            <a:ext cx="835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lechte leefomstandighed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ede en werkelooshei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tzichtloosheid en afnemend vertrouw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 maatschappij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enemende neiging tot criminaliteit </a:t>
            </a:r>
            <a:br>
              <a:rPr sz="4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8:17Z</dcterms:modified>
  <cp:revision>43</cp:revision>
  <dc:subject/>
  <dc:title>Dia 1</dc:title>
</cp:coreProperties>
</file>