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7F0-07F1-479E-B0C2-CFF66354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556-0DBA-4519-A19B-4686DBF6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471-3A66-4840-8C94-61D8D4EF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237-69FD-4F70-9B9C-51969D23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F6A-438B-4192-B90D-3FF1F243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FC3-6E5D-4FFD-B983-A4EEE7B0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48A-0FAE-49B8-9A01-2F075F7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200-CCC1-4D9F-B8C8-6166E82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4CF-C038-484A-91C8-EB9BBCFE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1CF-7AEE-4E2F-8FD1-258951D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DE6-A02B-4BD1-AD0D-73A2DF1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68C-D870-4EB2-AB16-557E671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DFB-A4CD-4A05-BC1C-AE093689F7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95280" y="2637000"/>
            <a:ext cx="8064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 (Rech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209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80360" y="623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al-democratie (Link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v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hristen-democratie (Midd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8" descr="Afbeeldingsresultaat voor rechts extremisme"/>
          <p:cNvPicPr/>
          <p:nvPr/>
        </p:nvPicPr>
        <p:blipFill>
          <a:blip r:embed="rId2"/>
          <a:stretch/>
        </p:blipFill>
        <p:spPr>
          <a:xfrm>
            <a:off x="5313240" y="4437000"/>
            <a:ext cx="160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hthoek 5"/>
          <p:cNvSpPr/>
          <p:nvPr/>
        </p:nvSpPr>
        <p:spPr>
          <a:xfrm>
            <a:off x="395280" y="404640"/>
            <a:ext cx="777708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Ecologische str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atuu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mag zo min mogelijk worden aangetast door mensen. Burgers moeten zich milieubewust gedragen. Groen Links en de Partij voor de Dieren zijn voorbeelden van milieupartij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opul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een stijl van politiek bedrijven. Inspelen op de onderbuik gevoelens van het volk. Zij zijn van mening dat zij als enige de ‘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l van het vol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’ kennen en bereid zijn daarnaar te luisteren. Deze partijen hebben vaak zeer nationalistische standpunten. Dus tegen Europa en tegen immigratie. Pvv en Sp zijn voorbeelden hierva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7" descr=""/>
          <p:cNvPicPr/>
          <p:nvPr/>
        </p:nvPicPr>
        <p:blipFill>
          <a:blip r:embed="rId1"/>
          <a:stretch/>
        </p:blipFill>
        <p:spPr>
          <a:xfrm>
            <a:off x="1187280" y="3730680"/>
            <a:ext cx="364356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Afbeelding 8" descr=""/>
          <p:cNvPicPr/>
          <p:nvPr/>
        </p:nvPicPr>
        <p:blipFill>
          <a:blip r:embed="rId2"/>
          <a:stretch/>
        </p:blipFill>
        <p:spPr>
          <a:xfrm>
            <a:off x="5003640" y="420048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9" descr=""/>
          <p:cNvPicPr/>
          <p:nvPr/>
        </p:nvPicPr>
        <p:blipFill>
          <a:blip r:embed="rId3"/>
          <a:stretch/>
        </p:blipFill>
        <p:spPr>
          <a:xfrm>
            <a:off x="7053120" y="6116760"/>
            <a:ext cx="1484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8:46Z</dcterms:modified>
  <cp:revision>66</cp:revision>
  <dc:subject/>
  <dc:title>Dia 1</dc:title>
</cp:coreProperties>
</file>