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D12-670B-4F84-A584-7A924F33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422-6F38-4EB7-A809-CA4A09AB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619-40F1-4E09-BDAD-88426B5D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1AE-A3DB-4000-AA31-F569D7F6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3FF-F1B8-4221-89FF-A2F7774F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5D4-9945-47DF-BC3D-21C61B66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B19-7EE1-4D6A-9BE7-CD61E057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603-2F03-4056-A529-6A4D5513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39E-D9CF-4767-9AF8-8BDC3B63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825-73DA-40F6-89E9-405D1999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41E-19F7-4251-8ECC-26F92FD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FED-2EF3-4EE8-A3C6-6D4F5649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4633-54D3-4D41-9A24-5DF6AD26E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Voor de recht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716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5734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3116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or de re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197000"/>
            <a:ext cx="85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 gebeurt er als de officier van justitie besluit dat je naar d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hter mo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492280"/>
            <a:ext cx="4608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vol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 de officier van justitie besluit tot vervolging dan krijg je ee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gvaard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erin staat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arom je voor de rechter mo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chijn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ar je voor de rechter moet verschijn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je moet verschij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rechter beslist over een  verdachte dus spreken we ov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frechtspraa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9747" t="9823" r="12224" b="39855"/>
          <a:stretch/>
        </p:blipFill>
        <p:spPr>
          <a:xfrm>
            <a:off x="5219640" y="2781360"/>
            <a:ext cx="3457800" cy="295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620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sinsta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256536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ht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112536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ge ra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184464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echtsh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derland kennen we drie soorten rechtsinstan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524720" y="2204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524720" y="1483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413000"/>
            <a:ext cx="604836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banken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zijn negentien gebieden met elk een rechtba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ke rechtbank heeft verschillende soorten afdelingen en rechter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ntonrechte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oor overtreding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recht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lichte misdrijv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voudige kam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zwaardere misdrijv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3429000"/>
            <a:ext cx="7921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echtshoven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zijn vijf gerechtsh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wel de verdachte als de officier van justitie kunnen bij het gerechtshof in hoger beroep gaan wanneer ze het met de straf van de rechtbank niet eens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797360"/>
            <a:ext cx="7921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ge r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is één hoge ra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de hoge raad kun je in cassatie gaan zoals dat heet. De hoge raad kijkt of de rechtsregels goed zijn toegepas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 goed toegepas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itspraak gerechtshof is geldi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goed toegepas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rechtshof moet haar werk opnieuw do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47628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loop rechtsza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zie ook laatste filmpje bij hoofdstuk 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836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rechtszaak bestaat uit 8 stapp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197000"/>
            <a:ext cx="813744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1.  Open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roleren persoonsgegevens van de verdachte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instrueren hoe hij zich moet gedragen tijdens de rechtsz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2.  Aanklach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ficier van justitie leest de aanklacht v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3.  Getuigenverhoo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ren van getuigen die zijn opgeroepen door de officier van justitie en de advocaat van de verdachte. Ook deskundigen (b.v. psychiater) kan als getuige worden opgeroep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4.  Verhoor van de verdacht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hoor door de officier van justitie en de advocaa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staat onder e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5.  Requisitoi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ficier van justitie eist straf en beargumenteert d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6.  Pleidooi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edigend woord van de advoca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7.  Laatste woor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mag als laatste zeggen wat hij zelf van de zaak en strafeis vind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8.  De uitspraak door de rec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10224" r="0" b="11353"/>
          <a:stretch/>
        </p:blipFill>
        <p:spPr>
          <a:xfrm>
            <a:off x="6156360" y="3789360"/>
            <a:ext cx="2187720" cy="165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476280"/>
            <a:ext cx="85327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Juryrechtspra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derland kent geen juryrechtspraak. (zie toelichting boek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et von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nen het vonnis spelen 4 vragen een belangrijke r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Is er voldoende bewij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voldoende bewijs volgens de rechter dan volgt vrijspr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Gaat het om iets strafbaar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alle geweld is strafbaar. Je mag jezelf bv. tot op zekere hoogte verdedi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Is de dader strafbaar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is iets strafbaars gedaan. De vraag is of het de dader valt aan te rekenen. (zie bo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Welke straf of maatregel wordt opgeleg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43280" y="4581360"/>
            <a:ext cx="29671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476280"/>
            <a:ext cx="806436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ngelijke behan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de wet is er geen ongelijke behandeling toegestaan. In de grondwet staat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is voor de wet gel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heeft recht op een eerlijk pro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ch is er nog sprake van ongelijke behandeling. Een niet-westerse allochtoon heeft in de praktijk in bepaalde situaties meer kans om te worden aangehouden en veroordeeld dan een autochto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ze ongelijke behandeling heet 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klassen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orzaken van ongelijke behandel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schillen in inkomen, opleiding en scholing leiden tot ongelijk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edigingskans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rlijke macht heeft ook vooroordelen t.o.v. bepaalde sociale klass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s van winkeldiefstal (vaker gepleegd door lagere sociale klassen dan hoge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) zijn makkelijker op te sporen dan daders van fraude (vaker gepleeg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gere sociale klassen dan lagere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ochtonen worden vanwege cultuurverschillen niet altijd begrep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 de praktijk blijkt dat mensen sneller aangifte doen tegen een allochtoon d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autochto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Naam</cp:lastModifiedBy>
  <dcterms:modified xsi:type="dcterms:W3CDTF">2012-02-28T10:49:05Z</dcterms:modified>
  <cp:revision>47</cp:revision>
  <dc:subject/>
  <dc:title>Dia 1</dc:title>
</cp:coreProperties>
</file>