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DA1-9884-4409-9A47-7EFE2E6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42A-09EF-4BEC-B012-BE7D10F9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046-94C6-4650-B610-85B0316F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25D-D746-4E87-931A-72C3B7B1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CD9-7392-472A-A119-AE531797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341-6107-4965-8F5F-1815FF4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1BB-84E2-4CC8-A06D-0703927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D2B-EEE6-45E7-A353-E3A18114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54E-7730-4D9D-9435-4F3B5076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3D0-8B36-4688-AA33-B2DF624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E2A-4DA9-4CE4-9324-B629AA3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79B-644F-454B-A0E9-102B47A0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7A2-E6B1-4FAB-847B-FE78392C61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nieuws.nl/show.php?key=172937&amp;titel=Moordenaar%20bejaarde%20echtgenoot%20niet%20strafbaar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Het strafrech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700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95640" cy="208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straf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strafrecht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tgangspunten van het strafrech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w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unt alleen worden gestraft voor wat in de wet strafbaar 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Wet bepaalt maximum str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schuldvraa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Onschuldig tot het tegendeel is bewezen (rechter bepaa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óór de uitspraak van de rechter ben je verdach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Na de uitspraak ben je dader of is er vrijspraak (bij gebrek aan bewij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365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t pro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oces met onafhankelijke en onpartijdige 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Bij zware misdrijven drie rechters (= “meervoudige kam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37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rijspraa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an niet voor hetzelfde feit meer keren worden berecht na vrijspr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2500"/>
          <a:stretch/>
        </p:blipFill>
        <p:spPr>
          <a:xfrm>
            <a:off x="5867280" y="549360"/>
            <a:ext cx="2590920" cy="17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62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erjar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Misdrijven en overtredingen kunnen na een aantal jaren niet meer word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ervo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odweer en overm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n de strafmaat en/of veroordeling weegt altijd mee of je handelde uit nood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weer (= zelfverdediging) en/of overmacht (iets strafbaars doen buiten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chu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63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oor jongeren geldt het 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357720"/>
            <a:ext cx="84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(on)toerekeningsvatbaa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ist iemand wat hij deed op het moment van het strafbare feit of was hij/zij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hopeloos in de w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200" y="494172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ouw hoeft niet de cel in voor moord op haar ma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klein verschil tussen “sterk ontoerekeningsvatbaar” 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ntoerekeningsvatbaar” heeft grote gevolgen voor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k op de filmproj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04640"/>
            <a:ext cx="83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we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tboek van strafvord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 o.a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en bevoegdheden rech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slachtoffer(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hulpverleningsinstan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advoca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pol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officier van just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429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bent pas verdachte bij een redelijk vermoeden van sch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78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om te weten waarvan je wordt verdac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14972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hebt recht op een advocaa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oet dan wel langer dan 6 uren hebben vastgezet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e een advocaat niet kan betalen krijgt een zgn. pro Deo (= gratis) advo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0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te zwijg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wel meewerken aan het vaststellen van je identite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ook meewerken aan het afnemen van vingerafdrukken of DN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27640" y="765000"/>
            <a:ext cx="2368800" cy="25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5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mag je maar een beperkte tijd vasthoude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e is afhankelijk van waar je van verdacht word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ijs moet op een manier zijn verkregen die volgens de wet mag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 niet dan is het bewijs ongeldig. (= onrechtmatig verkregen bewijs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55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852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Kinderen tot 12 jaar kunnen niet door de rechter worden bestraf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ad van de Kinderbescherming handelt dit af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429000"/>
            <a:ext cx="835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ngeren tussen de 12 en 18 jaa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n terecht voor de kinder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szitting niet openbaa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gevangenisstraf maar jeugddetentie (= tuchtschool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toezichtstelling (= OTS) waarbij een gezinsvoogd het gez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atsing in opvoedingsintern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73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Bij zware misdaden kan voor 16 t/m 18 jarigen het volwassen strafrec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d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uitzondering komen 18 t/m 21 jarigen voor de kinderrec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9:52Z</dcterms:modified>
  <cp:revision>41</cp:revision>
  <dc:subject/>
  <dc:title>Dia 1</dc:title>
</cp:coreProperties>
</file>