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D0CE-89D6-4ABB-A5D7-40321E24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A5E-F81B-4F82-95D4-4451948B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767-AFC4-4340-9360-046F385F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D11-66C6-4735-8C77-32504BD3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BCE-F9BE-45E8-9810-AFD21B1E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59FC-5AC7-483A-A67D-1133F75E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2578-0F9C-49C2-BB2A-0C087DBF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3440-F65C-465E-9E5B-58F3C52A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FDA-BD6C-4D4B-A699-65E21099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7AF-47A8-47CA-858D-779F61FC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A311-CD9A-4649-8339-274DF6D4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9390-75B1-4D2D-BD82-C60DF3C6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A4F5-0FFC-4396-AA02-8F40B8D6DDD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witmunin.com/v/628478/kinderkoor-zingt-aangepast-&apos;kerstliederen&apos;-in-winkelcentrum-voor-opvoedingslij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Criminaliteit, 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een probleem?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3068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403280" y="342900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708360" y="4869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bully"/>
          <p:cNvPicPr/>
          <p:nvPr/>
        </p:nvPicPr>
        <p:blipFill>
          <a:blip r:embed="rId2"/>
          <a:srcRect l="3685" t="0" r="0" b="0"/>
          <a:stretch/>
        </p:blipFill>
        <p:spPr>
          <a:xfrm>
            <a:off x="900000" y="4221000"/>
            <a:ext cx="309564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riminaliteit, een proble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11280" y="1197000"/>
            <a:ext cx="8064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treding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ximaal 1 jaar hechtenis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stal geen strafblad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hoge boete of hechtenis blijft de overtred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ximaal 10 jaar geregistr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sdrij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ximaal levensla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strafblad gedurende 20 jaa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ook strafbaar zijn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oging om een misdrijf te pleg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medeplichtig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4221000"/>
            <a:ext cx="8064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oorten criminal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ware criminalitei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roof)moord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erkracht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eorganiseerde misdaad (maffiapraktijk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el voorkomend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inkeldiefst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riminalitei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andalism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539640" y="549360"/>
            <a:ext cx="806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riminaliteit is ‘n maatschappelijk probleem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el mensen hebben ermee te maken (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sociaal probleem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Er bestaan verschillende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menin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over en er spelen diverse 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belan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rol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overheid bemoeit er zich mee (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politiek probleem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79640" y="2133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Sociaal probleem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Aantasting van waarden en norm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Wanneer overheid niet ingrijpt gaan mensen eigen rechter spel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Er is materiële en emotionele sch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079640" y="33577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Meningen en belan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Zwaardere straffen willen of juist niet 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coholgebruik pas bij 18 jaar of juist n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079640" y="429264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857760"/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Politiek probleem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inks (b.v. ‘Groen Links’ en ‘SP’)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lechte leefomstandigheden leid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t meer criminalitei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beleid vooral richten op voorkom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 criminaliteit (preventie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chts (b.v. ‘PVV en VVD’)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ader verantwoordelij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leid gericht op (streng) straff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= repress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riminaliteit"/>
          <p:cNvPicPr/>
          <p:nvPr/>
        </p:nvPicPr>
        <p:blipFill>
          <a:blip r:embed="rId1"/>
          <a:srcRect l="4283" t="3907" r="5703" b="5552"/>
          <a:stretch/>
        </p:blipFill>
        <p:spPr>
          <a:xfrm>
            <a:off x="3851280" y="907920"/>
            <a:ext cx="4896000" cy="3576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0" name="Rechthoek 2"/>
          <p:cNvSpPr/>
          <p:nvPr/>
        </p:nvSpPr>
        <p:spPr>
          <a:xfrm>
            <a:off x="395280" y="53006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lp nodig bij de opvo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lik op de filmprojector en kijk naar het  filmpj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68360" y="4762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Jongeren en ma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468360" y="907920"/>
            <a:ext cx="309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ongeren tussen 16 en 23 jaar plegen veel criminalit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riminaliteit gebeurt vooral door jongens en man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68360" y="2349360"/>
            <a:ext cx="30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orzaken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ongens mogen vaak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r dan meisjes va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n ouders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geboren verschillen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lichaamskr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agressieneig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chtsdenk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6" descr="dyn007_original_230_230_gif_2616433_045200ad0f6ddc4359e05e37fcbfbe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4720" y="4869000"/>
            <a:ext cx="1511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Ole de Vos</cp:lastModifiedBy>
  <dcterms:modified xsi:type="dcterms:W3CDTF">2014-09-08T09:06:12Z</dcterms:modified>
  <cp:revision>42</cp:revision>
  <dc:subject/>
  <dc:title>Dia 1</dc:title>
</cp:coreProperties>
</file>