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0CC-E01F-40CA-9002-E3AA941A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DB8-18A2-44F4-B368-A1A69EE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56A-6940-4A4D-B512-98E85437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651-BF0B-4FA3-A9B0-B180AEB7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13E-2F7A-427D-99DD-184C42D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A5C-0EC3-47EF-BCDA-D672B38A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8E6-1F79-4837-AA69-524A1D36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974-113F-4EAC-96AD-AAAAF2D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984-044D-4CB9-9A27-DAC4804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987-4DF1-4844-86C7-014E27D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877-B873-44AF-A233-0B6590F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172-B08C-4CBA-B719-4E5B471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77CD-E419-4561-B83C-569AAFCF9A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9:53Z</dcterms:modified>
  <cp:revision>71</cp:revision>
  <dc:subject/>
  <dc:title>Dia 1</dc:title>
</cp:coreProperties>
</file>