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3B8-1E4D-4CAC-AFB5-E82573AF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BD6-0E28-4949-B92F-6E2F8882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447-E756-4D4B-A5CF-0566AD8A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B9B8-C950-45CB-B209-B3EB1594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9F3-6E6E-4C29-AFE6-4C99F479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7F1-0948-4229-AE74-3F368D94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F4B0-0FD2-4FCC-8365-AC685E2B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A4E-AAD6-42E2-92D6-6E1790AC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A21-EF97-4078-97F9-E09691D1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6EB-947D-4BFF-A95E-BEA0DE24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A98-A414-4B91-B788-4B9047D8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908-0EB7-4298-9F9D-6D345823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D96C-389F-498E-842E-D7F316B00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Burgers, de media en pressiegroep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3933720"/>
            <a:ext cx="2590920" cy="23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Hoe kunnen de media, burgers en pressiegroepen invloed uitoefenen op de politiek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gers, media en pressieg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205000"/>
            <a:ext cx="82072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vloed van de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formatieve 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formatie geven over politieke besluitvorming via radio, tv, internet en krant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gendafunc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ournalisten zoeken uit wat er onder de bevolking leeft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b.v. kernenergie) Door er aandacht aan te bested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de media kan het op de politieke agenda kom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Functie van commentaar en meningsvorming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de media wordt er b.v. kritiek geleverd op politiek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ontrolerende 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ndelen overheid, bedrijven enz. wel zoals het mo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preekbuis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de media kunnen mensen hun mening gev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04640"/>
            <a:ext cx="8207280" cy="58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vloed van de bur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temmen bij verkiezingen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preekrech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bruikmaken van spreekrecht bij hoorzittingen van b.v. gemeenteraa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id worden van een politieke partij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elnemen aan partijbijeenkomsten en zo invloed uitoefenen op partijstandpunt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Zelf een politieke partij opri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olksvertegenwoordigers aansprek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tact zoeken met politici en hen vertell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e je over bepaalde onderwerpen denk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preekbuis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de media kunnen mensen hun mening gev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zoek indien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agen stellen of b.v. subsidie aanvragen bij College van B. &amp; 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lacht of bezwaarschrif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dienen / Nationale Ombudsman inschak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dia inschak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essiegroep oprichten of er lid van wo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monstreren en handtekeningenac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659640" y="2421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dyn007_original_230_230_gif_2616433_045200ad0f6ddc4359e05e37fcbfbe38"/>
          <p:cNvPicPr/>
          <p:nvPr/>
        </p:nvPicPr>
        <p:blipFill>
          <a:blip r:embed="rId2"/>
          <a:stretch/>
        </p:blipFill>
        <p:spPr>
          <a:xfrm>
            <a:off x="6659640" y="242100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404640"/>
            <a:ext cx="820728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vloed van pressiegroe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essiegroepen streven een bepaald belang na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essie groepen (pressie = druk) proberen hun doel te bereiken door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lobby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steun proberen te krijgen van politici en invloedrijke personen)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openlijke acti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b.v. handtekeningenacties, staking, blokkades enz.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oorten pressiegroe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belangengroep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tten zich in voor een bepaalde groep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taan meestal voor langere tij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beelden: ANWB, Winkeliersvereniging, LA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actiegroep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tten zich in voor een duidelijk probleem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staan meestal voor kortere tij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beeld: Actiegroep tegen invoering 130 km/uur op snelwe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actieorganisatie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tten zich in voor een duidelijk probleem</a:t>
            </a:r>
            <a:br>
              <a:rPr sz="16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durende langere tij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beeld: Amnesty International die zich inzet voor mensenrechten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732720" y="2276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620640"/>
            <a:ext cx="8207280" cy="57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e krijgt een pressiegroep ma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nn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rgen dat je veel deskundigheid binnen de groep hebt over het ontwerp waar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e voor vo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te van de groe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e groter de groep hoe meer ma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l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geld krijg je nu eenmaal makkelijker zaken geregel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de contacten met de media geeft meer ma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e politici benadert kan invloed uitoefen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loed = mach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ism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leider met uitstraling en gezag is 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uur en adviesorga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tting zien te krijgen in besturen en adviesorgan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groot de mach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880000" cy="1938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02-22T18:56:54Z</dcterms:modified>
  <cp:revision>58</cp:revision>
  <dc:subject/>
  <dc:title>Dia 1</dc:title>
</cp:coreProperties>
</file>