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785-44E1-46E2-A350-FA6EB8E7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881-DF29-4DBF-AF60-387EAE6D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0FB-D014-4881-9181-834A056B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51F-03C0-4795-A73F-93E11EF5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914-2C42-4203-BB8D-8C531FF0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83B-F07D-43A6-8B16-8622B10D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2F2-2F82-414A-8809-F33F2E89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0BD-F674-4A7C-B597-0DCD6066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242-D040-427D-8157-5B2DC9F6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008-5641-43BA-9A25-6CC524F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971-2616-434B-8E6B-BDBF54EB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1CF-6276-46D4-87E6-69B5312B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7EF0-CB72-4334-91E8-CF0F60C2ED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olitiek, staat en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dict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6132" t="6980" r="5187" b="9286"/>
          <a:stretch/>
        </p:blipFill>
        <p:spPr>
          <a:xfrm>
            <a:off x="900000" y="3933720"/>
            <a:ext cx="2087640" cy="25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98100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e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stellen van regels die te mak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bben met het besturen van he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87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 meervoud van he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ord politicu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vertegenwoordigers di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ns het volk besluiten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24000" y="4653000"/>
            <a:ext cx="84978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eke nivea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es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der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elijk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rste en Tweede Kam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ord-Brab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nciaal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lijk niveau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r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 &amp; Ma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schaps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schapsra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ek staat en dict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67280" y="1197000"/>
            <a:ext cx="4392360" cy="33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68360" y="3573360"/>
            <a:ext cx="28083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goed besturen is niet eenvoudi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8606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549360"/>
            <a:ext cx="849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a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spreken van een staat wanneer er sprak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va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en grondgebied (hoeft niet aaneen geslo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zijn maar meestal is dat we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bevol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overheid (= het gez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95280" y="2637000"/>
            <a:ext cx="87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rondgebie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rondgebied = het land, het water (tot maximaal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2 km in zee) en het luchtruim daarb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70400" y="476280"/>
            <a:ext cx="3576600" cy="417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395280" y="3573360"/>
            <a:ext cx="87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vol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derland bestaat de bevolking uit autochton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allochtonen. (multiculturele samenleving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95280" y="4653000"/>
            <a:ext cx="87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za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zag = de overheid die het land, provincie, gemeente enz. bestuurt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gezag wordt niet altijd door elk land erkend. (Noord-Cyprus wordt alleen door Turkije als zelfstandig land erkend. Taiwan wordt niet door China als zelfstandig land erkend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54936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ctatu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dictatuur is een staat waarbij de macht in handen is van één persoon (dictator), een kleine groep mensen of één politieke partij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95280" y="1700280"/>
            <a:ext cx="8748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dictatuu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olk heeft geen politie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n (b.v. vrijheid van me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ngsuiting of partijvorming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bescherming van grond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n zoals onafhankelij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spraak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er speelt vaak rol als onder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rukk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95280" y="4292640"/>
            <a:ext cx="3095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orbeelden van dictatur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ord-Ko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artoon: Kim Jong Un (medium) by Erl tagged nord,korea,diktator,kim,jong,il,tod,nachfolge,sohn,un,dick,stalinismus,hunger,armut,hoffnung,reformen,nordkorea,kim jong il,tod,nachfolge,sohn,stalinismus,kim,jong,il"/>
          <p:cNvPicPr/>
          <p:nvPr/>
        </p:nvPicPr>
        <p:blipFill>
          <a:blip r:embed="rId1"/>
          <a:stretch/>
        </p:blipFill>
        <p:spPr>
          <a:xfrm>
            <a:off x="3995640" y="2060640"/>
            <a:ext cx="4689720" cy="332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1-23T11:57:30Z</dcterms:modified>
  <cp:revision>34</cp:revision>
  <dc:subject/>
  <dc:title>Dia 1</dc:title>
</cp:coreProperties>
</file>