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EC6-6246-4868-B9D3-F2B3CF6D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E00-46AF-4C0D-A5CA-9C057927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574-7D7F-4B57-A0B9-04D79FC5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595-8C3F-4BCB-BDCB-1E688CF6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EA3-481F-4002-BC66-CE3B4F98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5D1-15A3-4BAE-88EB-394E972E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5CF-5B21-433E-9034-11C81B4F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AF3-27B4-4C03-90DB-627F45CE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FC8-75F9-42B8-97F9-1B4D2B03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436-975F-4E42-97AC-3187FF65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AEF-4719-495C-BA2E-135C24A3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E67-877C-4B4C-B85B-BA3CDA53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0705-F8C9-4ED2-8563-BBB31B998C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Politieke Stroming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zerometer-nietdegrootste"/>
          <p:cNvPicPr/>
          <p:nvPr/>
        </p:nvPicPr>
        <p:blipFill>
          <a:blip r:embed="rId2"/>
          <a:stretch/>
        </p:blipFill>
        <p:spPr>
          <a:xfrm>
            <a:off x="900000" y="3933720"/>
            <a:ext cx="39610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1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gegev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tieke stromingen 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en geheel van ideeën over wat belangrijk is in de maatschappij 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n hoe mensen het beste met elkaar kunnen samenl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al in dit hoofdstuk staat de deelvraag: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t willen het liberalisme, het socialisme en het confesionalism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olitieke str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395280" y="2637000"/>
            <a:ext cx="8207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iber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eerst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 vanuit de Franse revolutie. Burgers eisten vrijheid tegenover de macht van koning en de a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willen individuele vrijheid. Iedereen moet zoveel mogelijk zijn eig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issingen nemen.  Overheid moet deze persoonlijke vrijheid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moeten vrij zijn om voor zichzelf te zorgen; bedrijven te starten. Er moet zo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inig mogelijk regelgeving zijn zodat de economie maximaal de ruimte krij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belang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die hard werken mogen gerust meer verdienen. Grote inkomensverschil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geen probleem voor liberalen. Lage belastingen (bevordert de economie) en lag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keringen (zet mensen eerder aan tot werken) zijn liberale item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VD is een voorbeeld van een liberale part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2" descr="view"/>
          <p:cNvPicPr/>
          <p:nvPr/>
        </p:nvPicPr>
        <p:blipFill>
          <a:blip r:embed="rId1"/>
          <a:stretch/>
        </p:blipFill>
        <p:spPr>
          <a:xfrm>
            <a:off x="7020000" y="260280"/>
            <a:ext cx="1608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4640"/>
            <a:ext cx="8207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ci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tijdens de industriële revolutie in de tweed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. Het liberalisme leidde tijdens de industriële revolutie (ontstaan van fabrieken) tot uitbuiting van de arbeiders door de rijke industriëlen. Economische vrijheid leidde zo tot misstan-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(ook wel sociaaldemocraten genoemd) streven naar gelijke kans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ongeacht de afkomst. Gelijkheid en gelijkwaardigheid staan bij hen hoog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aan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kans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en zijn voorstander van een actieve overheid. Zwakkeren moe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ansen krijgen en daarin heeft de overheid een belangrijke rol. Sociaal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mocraten willen dan ook graag dat lagere inkomens sneller stijgen dan hoge (di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et nivelleren = verschil verkleinen) en dat mannen en vrouwen zowel thuis als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samenleving het werk eerlijk verdelen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vdA en SP zijn voorbeelden van partijen voor wie het socialisme belangrijk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hippogallery%3Apicture&amp;sa=X&amp;ei=4bRcT_CoDcSgOsK-vPkM&amp;ved=0CAwQ8wc&amp;usg=AFQjCNGi9swkjSyPj9p91hW-EhF3SBUSJw"/>
          <p:cNvPicPr/>
          <p:nvPr/>
        </p:nvPicPr>
        <p:blipFill>
          <a:blip r:embed="rId1"/>
          <a:stretch/>
        </p:blipFill>
        <p:spPr>
          <a:xfrm>
            <a:off x="1835280" y="5013360"/>
            <a:ext cx="132084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sp_logo_FF0000"/>
          <p:cNvPicPr/>
          <p:nvPr/>
        </p:nvPicPr>
        <p:blipFill>
          <a:blip r:embed="rId2"/>
          <a:stretch/>
        </p:blipFill>
        <p:spPr>
          <a:xfrm>
            <a:off x="3708360" y="5084640"/>
            <a:ext cx="20890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404640"/>
            <a:ext cx="8207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onfessionalisme: christen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tweede helft van de negentiende eeuw als tegenhanger van het liberalisme en later ook het socialisme die als heidens werden gez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belse waar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enliefde en verantwoordelijkheid voor de medemens staan centraal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orgvuldig met elkaar en de aarde omgaan (= rentmeesterschap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gezin is de hoeksteen van de samenleving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lijk leven is van grote waarde en daardoor staan christen-democraten ze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iverig t.o.v. abortus en euthanas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perkte rol over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endemocraten zijn voorstanders van particuliere organisaties die zorg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aken als onderwijs, gezondheidszorg, kunst enz. De overheid dient de zwakkeren t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posi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gen niet de nadruk op economische vrijheid (= liberaal) of financiële gelijkheid (=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isch) maar op gezamenlijke verantwoordelijkheid van werkgevers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rknemer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A, CU en SGP zijn voorbeelden hiervan waarbij CU en SGP erg Bijbelgericht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DA-logo"/>
          <p:cNvPicPr/>
          <p:nvPr/>
        </p:nvPicPr>
        <p:blipFill>
          <a:blip r:embed="rId1"/>
          <a:stretch/>
        </p:blipFill>
        <p:spPr>
          <a:xfrm>
            <a:off x="468360" y="5445000"/>
            <a:ext cx="2448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gp"/>
          <p:cNvPicPr/>
          <p:nvPr/>
        </p:nvPicPr>
        <p:blipFill>
          <a:blip r:embed="rId2"/>
          <a:stretch/>
        </p:blipFill>
        <p:spPr>
          <a:xfrm>
            <a:off x="3419640" y="537372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christenunie"/>
          <p:cNvPicPr/>
          <p:nvPr/>
        </p:nvPicPr>
        <p:blipFill>
          <a:blip r:embed="rId3"/>
          <a:stretch/>
        </p:blipFill>
        <p:spPr>
          <a:xfrm>
            <a:off x="5580000" y="5516640"/>
            <a:ext cx="3097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8360" y="620640"/>
            <a:ext cx="8207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 extrem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het rechts extremisme zijn niet alle mensen gelijkwaar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gelijkwaard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igen volk is superieur. Sommige rassen zijn beter dan anderen. Eigen volk eerst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itenlanders zijn de schuld van ellende zoals werkeloosheid, criminaliteit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ningno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Gewel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chts extremisten schuwen geen geweld om hu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doel te berei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 van dit soort partijen in Nederland zij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SB in de jaren 30 van de vorige eeuw, e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 (Centrum Democraten) en de Volksunie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eind van de vorige eeu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entrum%20democraten-poster"/>
          <p:cNvPicPr/>
          <p:nvPr/>
        </p:nvPicPr>
        <p:blipFill>
          <a:blip r:embed="rId1"/>
          <a:srcRect l="0" t="0" r="0" b="17835"/>
          <a:stretch/>
        </p:blipFill>
        <p:spPr>
          <a:xfrm>
            <a:off x="639720" y="2538360"/>
            <a:ext cx="2952720" cy="379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13" descr="220px-Wappen_NSB_1936-1945"/>
          <p:cNvPicPr/>
          <p:nvPr/>
        </p:nvPicPr>
        <p:blipFill>
          <a:blip r:embed="rId2"/>
          <a:stretch/>
        </p:blipFill>
        <p:spPr>
          <a:xfrm>
            <a:off x="5003640" y="4437000"/>
            <a:ext cx="20955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4-06-27T14:07:39Z</dcterms:modified>
  <cp:revision>63</cp:revision>
  <dc:subject/>
  <dc:title>Dia 1</dc:title>
</cp:coreProperties>
</file>