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DEE-58E1-43E5-BB2E-7367734E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E4F-8556-487F-9658-91DCC478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BEA-9B64-4CFE-95B0-B603C81B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CCF-D658-4BCE-BD39-E9FD1B8F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AB5-A9DE-48F5-8E39-CB2BBAB8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99F-9173-4E91-90C0-B929B8CD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C97-3520-4D20-8FF2-F34FA026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27A-A253-4481-BC31-2BBE5BD4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B86-FA33-46F9-9704-919D02F8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F0A-8644-49AA-B2B4-68270C5A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409-2F03-40D6-9CFA-4CF94C4C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DB5-5BAF-48C6-B651-C78AB879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C9D7-A0E6-4527-9538-768FBD01BB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3/Pol-landschap-2010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e partij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1 Kies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2 Soorten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f en passief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Nederlanders van achttien jaar en ouder hebben actief en pass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ct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te mogen stemmen.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s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je verkiesbaar te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m de vier jaar kiezen de burgers van Nederland de nieuwe led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Tweede Ka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Provinciale Sta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Gemeentera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naast zijn er elke vijf jaar verkiezingen voor he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uropees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politieke partij bestaat ui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en groep mensen met ongeveer dezelfde ideeën over hoe de samenleving eruit zou moeten zi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ol van politiek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eke partijen proberen op allerlei manieren invloed uit te oefenen op het beleid van de overhei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brengen hu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standpunt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oortdurend naar v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ertegenwoordi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aak de belangen van maatschappelijke organisaties en bepaalde groepen in de maatschappij. (VVD komt op voor de werkgevers en de SP voor de werknemer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leveren mense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oor politieke fun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(Ministers, burgemeesters, Kamerl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beïnvloe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in politieke functies. Partijen hebben veel contact met hun eigen Kamerleden, gemeenteraadsleden, ministers, leden van het Europees parlement en Burgemee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3"/>
          <p:cNvSpPr/>
          <p:nvPr/>
        </p:nvSpPr>
        <p:spPr>
          <a:xfrm>
            <a:off x="379440" y="985680"/>
            <a:ext cx="820728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rogressief of conservat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gressief (vooruitstrev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verandering. Je wilt de samenleving beter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servatief (behoud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, links of m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 (Vrij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elf hun verantwoordelijkheid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ssi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n, zich zo min mogelijk bemoeien met het dagelijks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ven en d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nks (Gelijk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n i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zijn, zich inzet voor de mensen in de samenlev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826920" y="620640"/>
            <a:ext cx="792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Sam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mensen moeten het samen met de overheid doen. Sommige partijen hebben dus zowel linkse als rechtse standpunten. De overheid heeft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anvullen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Bestand:Pol-landschap-2010.gif">
            <a:hlinkClick r:id="rId1"/>
          </p:cNvPr>
          <p:cNvPicPr/>
          <p:nvPr/>
        </p:nvPicPr>
        <p:blipFill>
          <a:blip r:embed="rId2"/>
          <a:srcRect l="0" t="0" r="0" b="1638"/>
          <a:stretch/>
        </p:blipFill>
        <p:spPr>
          <a:xfrm>
            <a:off x="395280" y="1989000"/>
            <a:ext cx="4535640" cy="446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Matrix-Politieke-Partijen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Ole de Vos</cp:lastModifiedBy>
  <dcterms:modified xsi:type="dcterms:W3CDTF">2016-02-18T09:59:38Z</dcterms:modified>
  <cp:revision>71</cp:revision>
  <dc:subject/>
  <dc:title>Dia 1</dc:title>
</cp:coreProperties>
</file>