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B93-F0E0-4DD2-AA8D-2DB11D8C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69B-EDBB-4279-B0E7-37243419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8AF-7A65-4AC2-B9C1-D8AC8EF5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814-DC10-4D1A-AA2D-ECCBE009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177-6FF1-406C-816A-FCA63120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FDB-6EAE-45F6-8F27-6024F974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35C-7928-4927-8BC4-2E5725CB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A7D-8F6E-4EC8-ACB2-FF1CD7E3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9BD-ACFA-4419-82ED-8627A7F4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353-CA83-4FD9-806A-5ABADC0A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88B-0446-471B-9503-01FCED0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3E0-F89D-49CE-A9CC-9DE85442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D678-3C5B-4428-96EF-900AE6521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youtube.com/watch?v=2od1KTX0SoI&amp;feature=related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outube.com/watch?v=1Hw3av8gjgM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Het beleid van de overhei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566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beleid van de ove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052640"/>
            <a:ext cx="85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t kan de overheid doen om het aantal misdrijven omlaag te breng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44640"/>
            <a:ext cx="77774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Beleid tegen criminalit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terugdringen van criminaliteit is in principe e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weesporenbelei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Preven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beleid dat wil voorko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Repre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beleid dat wil bestraff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789360"/>
            <a:ext cx="7777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Welke overheden spelen hier een 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ststellen wetten + bespreken van andere oplossin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meentelijke overhei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meester is verantwoordelijk voor de openbare orde en veiligheid. Hij is het hoofd van de poli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ustitie bestaat uit het O.M. (Openbaar Ministerie), officier van justitie en politie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fficier van justitie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erantwoordelijk voor opsporing en vervol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227640" y="2060640"/>
            <a:ext cx="2232000" cy="221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77774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leidsdaden van d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beleid van de overheid wat zich richt tegen criminaliteit is binnen het tweesporen beleid op te splitsen in zes onderde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ie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220920"/>
            <a:ext cx="77774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. Opsporing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heid richt zich de laatste jaren vooral op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ware georganiseerde misd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voorkomende criminal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iligheid en terr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4797360"/>
            <a:ext cx="77774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2. Vervolging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volgingsbeleid = op welke manier wil de overheid misdrijven bestraff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elrecht (= lik op stuk beleid) bij b.v. voetbalvand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estaan van softdrugs (= gedoogbel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204" t="0" r="4368" b="3704"/>
          <a:stretch/>
        </p:blipFill>
        <p:spPr>
          <a:xfrm>
            <a:off x="5148360" y="1773360"/>
            <a:ext cx="3024000" cy="251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76280"/>
            <a:ext cx="7921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Vervolgingsbeleid 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el voorkomende criminal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ruk ligt op preventie (= voorkoming) en geldt vooral bv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vandalisme, winkeldiefstal en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l: Overlast op straat met 25% verminder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al werk- en/of leerstraffen worden toegepa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1519200" cy="18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959280" y="2708280"/>
            <a:ext cx="51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rganiseerde misd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nk aan: vrouwenhandel, drugshandel, helin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ruk ligt hier op repressie. (= bestraffing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eurbestrij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rijding van bv. aanslagen en vliegtuigkaping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el: verruiming van bevoegdheden van politie 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echaussee. (bv arrestatiemogelijkheid bij ver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cht gedra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2156040" cy="230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900000" y="5373720"/>
            <a:ext cx="395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Wil de overheid ons waarschuwen, opvoeden of indoctrineren of zijn wij echt met z’n allen ver-antwoordelijk voor onze veiligheid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734080"/>
            <a:ext cx="86508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6" descr="dyn007_original_230_230_gif_2616433_045200ad0f6ddc4359e05e37fcbfbe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494172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476280"/>
            <a:ext cx="792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.  Gevangeni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 cell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bepaalde gevallen meer mensen in één c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2737080" cy="182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611280" y="1557360"/>
            <a:ext cx="7920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.  Nieuwe wetge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tboek  van Strafrecht moet regelmatig word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ngepast aan de actualite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nieuwe wetgeving zal de overheid zich altijd afvragen of nieuwe maatregelen voldoende het gewenste effect opleve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nselijk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heid stelt zich de vraag of nieuwe maatregelen passen bij de waarden en normen van dit moment. De visie van burgers en politiek is dus van bela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429264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.  Preventiebelei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zie hoofdstuk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4797360"/>
            <a:ext cx="5327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6.  Jeugd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rpunten op het gebied va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 toezi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enp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dyn007_original_230_230_gif_2616433_045200ad0f6ddc4359e05e37fcbfbe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443700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4581360"/>
            <a:ext cx="19429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ekijk het filmpje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ver jeugddetent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Kan zijn dat er eerst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en reclamefilmpje komt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25T16:58:44Z</dcterms:modified>
  <cp:revision>56</cp:revision>
  <dc:subject/>
  <dc:title>Dia 1</dc:title>
</cp:coreProperties>
</file>