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B989-E5AF-48B5-9033-176857FD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469D-96B4-4B95-A67B-7FFC1ECA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E04-4B76-4912-B896-111F32FB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899-7100-43EA-817A-AA047A21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976-F792-4F55-A04B-FE6F4796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1B9-82CA-47AC-A7A6-E1DCA27F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F30F-3C20-4C43-9C29-3E923D5F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95A-63F0-4E6D-9844-355DDD7B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AF0-DEAF-46D5-89E5-A4941899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496-3314-4573-8055-4D83C395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2D3-3D64-4EC5-B044-5F3FD559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F6AE-5724-4D02-A13F-84E3F632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6E78-2930-46E4-86C2-CF962E44E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Preventi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7336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92720" y="566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324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ve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052640"/>
            <a:ext cx="85327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dit hoofdstuk staat de volgen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elke maatregelen kunnen we nemen om criminaliteit te voorkomen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ieve maatregelen kunnen worden genomen do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andelijke overh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okale overh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drijv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141720"/>
            <a:ext cx="7777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andelijke over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hiervoor hoofdstuk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eerpunten in het beleid zijn naast hetgee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hoofdstuk 9 staat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lichting inbraakpreventie vooraf aan vakantieperiod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ntispijbelbele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5157720"/>
            <a:ext cx="7777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okale over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ag naast de mogelijkheden die de landelijke wetgeving geeft onder bepaalde voorwaarden ook b.v preventief fouilleren, een blowverbod instellen voor een bepaald gebied ter bestrijding van overlast en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02240" y="1916280"/>
            <a:ext cx="22910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49360"/>
            <a:ext cx="777744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Welke preventie maatregelen zijn 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ociale control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e controle leidt tot minder criminalitei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 zie bo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betering woonomgev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ettige woonomgeving leidt tot minder criminalitei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 zie bo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ALT-bureau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LT (= Het Alternatief) richt zich op minderjarige daders bij lichte overtredingen of lichte misdrijven.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(taak)straf dient altijd in relatie te staan met de overtreding of het misdrijf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der krijgt notitie in strafbl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4149720"/>
            <a:ext cx="39607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drijven en burge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drijven en burgers kunnen zel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preventieve maatregelen nem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 vandalisme en inbraak te voorkom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beelden: zie bo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3568" r="2808" b="5045"/>
          <a:stretch/>
        </p:blipFill>
        <p:spPr>
          <a:xfrm>
            <a:off x="5867280" y="692280"/>
            <a:ext cx="2665440" cy="1539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2920" b="0"/>
          <a:stretch/>
        </p:blipFill>
        <p:spPr>
          <a:xfrm>
            <a:off x="1042920" y="4149720"/>
            <a:ext cx="2376720" cy="198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Naam</cp:lastModifiedBy>
  <dcterms:modified xsi:type="dcterms:W3CDTF">2012-03-13T08:50:25Z</dcterms:modified>
  <cp:revision>60</cp:revision>
  <dc:subject/>
  <dc:title>Dia 1</dc:title>
</cp:coreProperties>
</file>