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306-77AB-4206-9004-3D9128AD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42B-09B2-4011-A7E7-A3C4E360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A3D-1C1F-4D3D-BBDD-00D827FF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E44-4AFD-4C24-8272-E4FD3C03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BBD-465E-4E61-AA32-425911B5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C6C-7EAC-4B8E-B4DC-4A90021F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C49E-F249-45D7-AF1A-66DEC9DA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391C-3925-4D67-A48A-DB6358FB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443-B244-4F9B-9BB3-8F0B1C6F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F30-6A28-4CC3-83C2-FEF95AC6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43B-06D4-4C42-9F34-B5906BF3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4B2-6D40-4A9F-A113-3647F2CA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5FAC-ABE4-45A1-B890-304C9FCE40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l.123rf.com/" TargetMode="External"/><Relationship Id="rId3" Type="http://schemas.openxmlformats.org/officeDocument/2006/relationships/hyperlink" Target="http://nl.123rf.com/" TargetMode="External"/><Relationship Id="rId4" Type="http://schemas.openxmlformats.org/officeDocument/2006/relationships/hyperlink" Target="http://www.google.nl/url?sa=i&amp;rct=j&amp;q=&amp;esrc=s&amp;frm=1&amp;source=images&amp;cd=&amp;cad=rja&amp;uact=8&amp;docid=-keA9L9w5nQitM&amp;tbnid=fp4zFOkVgXsk5M:&amp;ved=0CAYQjRw&amp;url=http%3A%2F%2Fplazilla.com%2Fpage%2F4295022624%2Fdrugs-een-maatschappelijk-probleem&amp;ei=VV8lU9zjF6ii0QWhuoDADQ&amp;bvm=bv.62922401,d.bGE&amp;psig=AFQjCNFMv6rNW-yyex9pR8loxPEhpZEIvw&amp;ust=1395044529786783" TargetMode="External"/><Relationship Id="rId5" Type="http://schemas.openxmlformats.org/officeDocument/2006/relationships/hyperlink" Target="http://www.google.nl/url?sa=i&amp;rct=j&amp;q=&amp;esrc=s&amp;frm=1&amp;source=images&amp;cd=&amp;cad=rja&amp;uact=8&amp;docid=-keA9L9w5nQitM&amp;tbnid=fp4zFOkVgXsk5M:&amp;ved=0CAYQjRw&amp;url=http%3A%2F%2Fplazilla.com%2Fpage%2F4295022624%2Fdrugs-een-maatschappelijk-probleem&amp;ei=VV8lU9zjF6ii0QWhuoDADQ&amp;bvm=bv.62922401,d.bGE&amp;psig=AFQjCNFMv6rNW-yyex9pR8loxPEhpZEIvw&amp;ust=1395044529786783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docid=imQZq1cFnp1bVM&amp;tbnid=aOfGfrWgTbdXjM:&amp;ved=0CAYQjRw&amp;url=http%3A%2F%2Fbladenatelier.blogspot.com%2F2010%2F04%2Fgoede-invalshoeken-zo-maak-je-ze.html&amp;ei=83ElU-LwG9HI0AXo-IGQCg&amp;psig=AFQjCNFgTUwW5BhdinsaE1V3ilRDg792-w&amp;ust=1395049258420815" TargetMode="External"/><Relationship Id="rId2" Type="http://schemas.openxmlformats.org/officeDocument/2006/relationships/hyperlink" Target="http://www.google.nl/url?sa=i&amp;rct=j&amp;q=&amp;esrc=s&amp;frm=1&amp;source=images&amp;cd=&amp;cad=rja&amp;uact=8&amp;docid=imQZq1cFnp1bVM&amp;tbnid=aOfGfrWgTbdXjM:&amp;ved=0CAYQjRw&amp;url=http%3A%2F%2Fbladenatelier.blogspot.com%2F2010%2F04%2Fgoede-invalshoeken-zo-maak-je-ze.html&amp;ei=83ElU-LwG9HI0AXo-IGQCg&amp;psig=AFQjCNFgTUwW5BhdinsaE1V3ilRDg792-w&amp;ust=1395049258420815" TargetMode="External"/><Relationship Id="rId3" Type="http://schemas.openxmlformats.org/officeDocument/2006/relationships/hyperlink" Target="http://www.google.nl/url?sa=i&amp;rct=j&amp;q=&amp;esrc=s&amp;frm=1&amp;source=images&amp;cd=&amp;cad=rja&amp;uact=8&amp;docid=imQZq1cFnp1bVM&amp;tbnid=aOfGfrWgTbdXjM:&amp;ved=0CAYQjRw&amp;url=http%3A%2F%2Fbladenatelier.blogspot.com%2F2010%2F04%2Fgoede-invalshoeken-zo-maak-je-ze.html&amp;ei=83ElU-LwG9HI0AXo-IGQCg&amp;psig=AFQjCNFgTUwW5BhdinsaE1V3ilRDg792-w&amp;ust=1395049258420815" TargetMode="External"/><Relationship Id="rId4" Type="http://schemas.openxmlformats.org/officeDocument/2006/relationships/hyperlink" Target="http://www.google.nl/url?sa=i&amp;rct=j&amp;q=&amp;esrc=s&amp;frm=1&amp;source=images&amp;cd=&amp;cad=rja&amp;uact=8&amp;docid=WLdeJEDSitnNmM&amp;tbnid=XbAot9Fo4edEiM:&amp;ved=0CAYQjRw&amp;url=http%3A%2F%2Fprosjektexpo.hiof.no%2Fexpo08%2FH08I02%2FDutch%2FProject_dutch.htm&amp;ei=aHIlU72FH4KK1AW-zoC4CQ&amp;psig=AFQjCNGK2Vr6O340Y7_wSWNd0UD-75ByKw&amp;ust=1395049411369920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1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Maatschappelijke problemen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proefwerken en opdrachten met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ucces 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3068640"/>
            <a:ext cx="8137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 en 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03280" y="3429000"/>
            <a:ext cx="727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5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5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 inzichtvragen – die in de proefwer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en voorkomen – 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708360" y="4869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1">
            <a:hlinkClick r:id="rId2"/>
          </p:cNvPr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2">
            <a:hlinkClick r:id="rId3"/>
          </p:cNvPr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>
            <a:hlinkClick r:id="rId4"/>
          </p:cNvPr>
          <p:cNvSpPr/>
          <p:nvPr/>
        </p:nvSpPr>
        <p:spPr>
          <a:xfrm>
            <a:off x="114480" y="-1461960"/>
            <a:ext cx="30477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>
            <a:hlinkClick r:id="rId5"/>
          </p:cNvPr>
          <p:cNvSpPr/>
          <p:nvPr/>
        </p:nvSpPr>
        <p:spPr>
          <a:xfrm>
            <a:off x="266760" y="-1309680"/>
            <a:ext cx="304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http://www.xead.nl/resize/500-500/upload/92d204e26c5557792f91828388cad23fdW50aXRsZWQxLmpwZw==.jpg"/>
          <p:cNvPicPr/>
          <p:nvPr/>
        </p:nvPicPr>
        <p:blipFill>
          <a:blip r:embed="rId6"/>
          <a:srcRect l="0" t="0" r="1323" b="-1972"/>
          <a:stretch/>
        </p:blipFill>
        <p:spPr>
          <a:xfrm>
            <a:off x="861840" y="3938760"/>
            <a:ext cx="2457720" cy="2541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468360" y="26028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aatschappelijke probl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9640" y="765000"/>
            <a:ext cx="806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rn van dit hoofdstu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elvragen in dit hoofdstuk zijn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Welke kenmerken hebben maatschappelijke problemen?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basisbegrippen horen bij de analyse van een maatschappelijk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bleem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moet je aan betrouwbare informatie k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90680" y="2924280"/>
            <a:ext cx="8064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enmerken van een maatschappelijk proble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is een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ocia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bleem. ( = De situatie of gebeurtenis wordt door veel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nsen afgekeur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zijn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rschillende mening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over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al zich moeten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emoei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t de oplo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is veel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aandach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de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edi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 het proble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468360" y="404640"/>
            <a:ext cx="8064360" cy="60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rnbegri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 onderscheiden diverse kernbegrip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. Waard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gangspunten of principes die we belangrijk vin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het uiteindelijk omdraai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gezondheid, vrede, respect, eerlijkheid, geweldloosheid en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. Norm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je om gaat met de waar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1. gezondheid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of niet rok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2. respec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of niet opstaan voor zwangere vrouw in de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tr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3. Belang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een maatschappelijk probleem spelen altijd belangen een rol. (= het voor- of nadeel dat iemand ergen van heeft.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1. huishuur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uurder wil lage huur &amp; huiseigenaar hoge huu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2. alcoholomze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caféhouder wil hoge omzet gezondheids-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zorg ziet liever een lage omzet van alcoh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468360" y="404640"/>
            <a:ext cx="806436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4. M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hebben van dwingende invloed op ander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: Je ouders kunnen je verbieden om naar de disco te 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5. Geza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cht die wettelijk is vastgele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: Politie kan je arresteren en voor een bepaalde tijd opslui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6. Machtsmiddel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ddelen waarmee je het gedrag van anderen kunt beinvloe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1.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ardighed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goed kunnen spreken of organiser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2.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harism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= uitstraling (mensen luisteren naar mensen di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sterke uitstraling hebb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3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acht van het geta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hoe meer mensen je achter j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bt hoe meer macht je bez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gewoon-nieuws.nl/wp-content/uploads/2013/11/macht2.jpg"/>
          <p:cNvPicPr/>
          <p:nvPr/>
        </p:nvPicPr>
        <p:blipFill>
          <a:blip r:embed="rId1"/>
          <a:stretch/>
        </p:blipFill>
        <p:spPr>
          <a:xfrm>
            <a:off x="611280" y="4302000"/>
            <a:ext cx="1584360" cy="2038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Tentoonstelling 'Macht en Geloof' in Heidelberg"/>
          <p:cNvPicPr/>
          <p:nvPr/>
        </p:nvPicPr>
        <p:blipFill>
          <a:blip r:embed="rId2"/>
          <a:stretch/>
        </p:blipFill>
        <p:spPr>
          <a:xfrm>
            <a:off x="3287880" y="5013360"/>
            <a:ext cx="414792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468360" y="404640"/>
            <a:ext cx="8364600" cy="63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Wat is waar en niet w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7. Objectiviteit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eiten en meningen die overeenstemmen met de werkelijk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8. Fei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waarheid die voor iedereen controleerbaar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9. Men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soonlijk oordeel of standp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0. Subjectivitei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Gekleurde” werkelijkhe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: Een journalist die Ajax-fan is zal minder snel negatief schrijven over Aj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1. Manipulati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bewust “kleuren” van informat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2 Propaganda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eeds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nipuleren ten gunste van een bepaalde groep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468360" y="404640"/>
            <a:ext cx="8364600" cy="74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Analys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ier invalshoeken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. sociaal-economisch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. sociaal-culturel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. politiek-juridisch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. veranderings- en vergelijkende invals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ociaal-economische invalsho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gaat hierbij vooral om de belangen van mense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ak zijn er tegengestelde belan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zijn de belangen van de betrokkenen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belangentegenstellingen zijn 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. Sociaal-culturel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den en normen spelen hier een 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waarden en normen spelen hier een rol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pelen culturele kenmerken van de betrokkenen een rol; welke zijn d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">
            <a:hlinkClick r:id="rId1"/>
          </p:cNvPr>
          <p:cNvSpPr/>
          <p:nvPr/>
        </p:nvSpPr>
        <p:spPr>
          <a:xfrm>
            <a:off x="114480" y="-1119240"/>
            <a:ext cx="195228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>
            <a:hlinkClick r:id="rId2"/>
          </p:cNvPr>
          <p:cNvSpPr/>
          <p:nvPr/>
        </p:nvSpPr>
        <p:spPr>
          <a:xfrm>
            <a:off x="266760" y="-966960"/>
            <a:ext cx="195264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>
            <a:hlinkClick r:id="rId3"/>
          </p:cNvPr>
          <p:cNvSpPr/>
          <p:nvPr/>
        </p:nvSpPr>
        <p:spPr>
          <a:xfrm>
            <a:off x="419040" y="-814320"/>
            <a:ext cx="19526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>
            <a:hlinkClick r:id="rId4"/>
          </p:cNvPr>
          <p:cNvSpPr/>
          <p:nvPr/>
        </p:nvSpPr>
        <p:spPr>
          <a:xfrm>
            <a:off x="114480" y="-1227240"/>
            <a:ext cx="24094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266760" y="-1074600"/>
            <a:ext cx="24098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6084720" y="1519200"/>
            <a:ext cx="2479680" cy="263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468360" y="404640"/>
            <a:ext cx="8364600" cy="79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3. Politiek-juridisch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gaat er hierbij vooral om hoe een probleem kan worden aangepakt door de overh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heeft de overheid tot nu toe aan het probleem gedaan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vinden de politieke partijen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staat er in de wet en wat zou je moeten/kunnen veranderen in de wet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4. Veranderings- en vergelijkend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gaat er hier om dat zaken aan verandering onderhevig zijn en niet overal hetzelfde wordt geda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Plaat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denkt men in een bepaald land of streek over het probleem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Het homohuwelijk in Rusland of in Nederland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ijd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denkt men in een bepaalde tijd over het probleem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emand zijn hand afhakken bij diefstal; nu of in de middeleeuw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Groep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denkt een bepaalde groep over het probleem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PVV wil moskeeën in Nederland verbieden; PvdA nie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4-06-30T13:23:48Z</dcterms:modified>
  <cp:revision>110</cp:revision>
  <dc:subject/>
  <dc:title>Dia 1</dc:title>
</cp:coreProperties>
</file>