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6D5F-8527-4714-AFFD-86FF0C39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CAA8-D416-4D40-845C-BD11086B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A15F-9ABB-48B2-891A-0AFFEDEC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7BE2-9AF0-4491-967B-00F795BE7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7A90-4857-4ED6-A859-0B30F5B8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6E83-F75A-4F31-BA00-C2837920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9B23-9010-41B0-B3AF-E0C7A90C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B7EA-918D-4E3D-81AB-C5648682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E7A3-3C5E-407C-8470-87D1C217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A4C8-19AC-4BA3-971B-702BEB61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9B24-F83E-4C2F-8982-F39643F2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F9E4-560B-46E4-B770-CDF503A3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D478-FD60-454C-B23A-6DBB718D6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Knelpunten in de politi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7058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3357720"/>
            <a:ext cx="741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71640" y="3933720"/>
            <a:ext cx="24494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836640"/>
            <a:ext cx="8209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ale vraa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dit hoofdstuk staat de vraag centra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Wat zijn de knelpunten in de politiek en wat kunnen we er aan doen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95280" y="1916280"/>
            <a:ext cx="8137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nelpunt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‘afstand’  tussen de burgers en de politiek en politici is groot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orzaak zijn een aantal knelpunte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nelpunten in de polit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468360" y="2852640"/>
            <a:ext cx="8137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Macht bij min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parlement is door de burgers gekoz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 zou dus vanuit democratisch oogpu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meeste macht moeten hebben. O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pier klopt het. In de praktijk zijn het t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ak de minist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539640" y="4653000"/>
            <a:ext cx="8137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3497400"/>
                <a:tab algn="l" pos="385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Regeerakkoord is bepalen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regeerakkoord tussen de regerend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jen is in de praktijk bepalend. Discussi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 onderwerpen die in dit akkoord staa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eft vaak weinig zin daar het besluit eigen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jk al vast sta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3068640"/>
            <a:ext cx="2993760" cy="3097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0"/>
          <p:cNvSpPr/>
          <p:nvPr/>
        </p:nvSpPr>
        <p:spPr>
          <a:xfrm>
            <a:off x="395280" y="476280"/>
            <a:ext cx="799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Tegen de wil van het volk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parlement en/of de regering nemen beslissingen waar de meerderheid van het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lk het waarschijnlijk niet mee eens is. (b.v. deelname van Nederlandse militair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an de oorlog in Afghanistan)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95280" y="1628640"/>
            <a:ext cx="799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roblemen moeilijk oplosbaar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at de regering ook doet niet alles is makkelijk oplosbaar. Denk aan milieuproble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atiek, het fileprobleem en de zeer hoge inkomens van sommige bestuurders/di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cteu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95280" y="2708280"/>
            <a:ext cx="799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Weinig vertrouwen in de politiek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oor ingewikkelde regelgeving en bureaucratie (=  zaken moet met veel formu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ieren, via veel instanties en dus lange wachttijden geregeld worden) is er weinig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trouwen in de politie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4360" y="4005360"/>
            <a:ext cx="2519280" cy="2361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2" name="Text Box 10"/>
          <p:cNvSpPr/>
          <p:nvPr/>
        </p:nvSpPr>
        <p:spPr>
          <a:xfrm>
            <a:off x="0" y="3933720"/>
            <a:ext cx="8137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3497400"/>
                <a:tab algn="l" pos="385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ropa bepaal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eds meer zaken worden op Europe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veau beslist. Het Nederlandse parlem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 de regering moeten zich hier aan houden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burger krijgt zo het gevoel dat de politie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m/haar niet serieus neem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68360" y="476280"/>
            <a:ext cx="813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beteri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 een democratie is belangrijk dat mensen betrokken zijn bij de politie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e verbeter je het democratisch proces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468360" y="141300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erendum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= burgers vragen over hun mening over een bepaald onderwerp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468360" y="2060640"/>
            <a:ext cx="79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71424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Voordelen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iezers hebben directe invloed op het besluit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 heeft bij aanvaarding steun van veel mensen (= draagval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468360" y="2852640"/>
            <a:ext cx="79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71424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adelen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luitvorming duurt langer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tici staan (tijdelijk) buiten spel. Aantasting van hun positie en aanzie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derwerpen waarover moet worden besloten zijn vaak moeilijk 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gewikkeld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leidt tot te simpele keuz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03640" y="4076640"/>
            <a:ext cx="3095640" cy="206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1" name="Text Box 10"/>
          <p:cNvSpPr/>
          <p:nvPr/>
        </p:nvSpPr>
        <p:spPr>
          <a:xfrm>
            <a:off x="539640" y="4508640"/>
            <a:ext cx="79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71424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 Nederland werd op 1 juni 2005 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71424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aadgevend referendum gehouden over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 vraag of er een Europese grondwet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est komen.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61,5% van de kiezers bleek tegen te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ebben gestem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468360" y="476280"/>
            <a:ext cx="813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mpli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sen wettelijk verplichten bij verkiezingen hun stem uit te brengen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68360" y="1052640"/>
            <a:ext cx="79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Regionale kandidaatstelling verplichten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neer een Tweede Kamerlid uit de eigen omgeving komt is heeft hij meer kan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 mensen hem/haar kennen en dit kan de betrokkenheid van de burger bij d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tiek vergroten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’n Kamerlid die in een landelijk parlement wordt gekozen voelt zich verplicht o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 de belangen van zijn regio op te komen. (zowel voordeel als nade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468360" y="2708280"/>
            <a:ext cx="799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424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Door het volk gekozen minister-president en burgemeester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kozen bestuurders staan dichter bij het vol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Nederlandse politieke systeem is moeilijk te combineren met een gekoz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-presid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468360" y="3860640"/>
            <a:ext cx="799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424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regulere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der laten beslissen door de rijksoverheid en meer door de lagere overheden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= gemeente en provinci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t kan leiden tot meer maatwerk (voordeel) en verschillende regelgeving p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meente (nadeel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468360" y="5300640"/>
            <a:ext cx="799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424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er bevoegdheden voor ‘t parle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der vooraf vastleggen in het regeerakkoord en parlement meer lat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lissen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merleden laten ondersteunen door ambtenaren en deskundig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468360" y="1052640"/>
            <a:ext cx="79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onale kandidaatstelling verplichten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neer een Tweede Kamerlid uit de eigen omgeving komt is heeft hij meer kan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 mensen hem/haar kennen en dit kan de betrokkenheid van de burger bij d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tiek vergroten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’n Kamerlid die in een landelijk parlement wordt gekozen voelt zich verplicht o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 de belangen van zijn regio op te komen. (zowel voordeel als nade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468360" y="2708280"/>
            <a:ext cx="799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424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or het volk gekozen minister-president en burgemeester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kozen bestuurders staan dichter bij het vol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Nederlandse politieke systeem is moeilijk te combineren met een gekoz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-presid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jan van gils</cp:lastModifiedBy>
  <dcterms:modified xsi:type="dcterms:W3CDTF">2012-12-26T16:22:00Z</dcterms:modified>
  <cp:revision>52</cp:revision>
  <dc:subject/>
  <dc:title>Dia 1</dc:title>
</cp:coreProperties>
</file>