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23B-AFA7-4CB4-BE03-55E4CE54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A7E-65F0-452A-ACC9-915512C3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141-0EF5-46B6-B387-BCE56A97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AA1-D10E-4E76-BA1C-603E0539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6671-529F-4AF4-A237-DC29516A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CE6-0681-46CD-9972-D2CAD41F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156F-B853-4965-8477-A2C6B778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5CE-C4C2-4FA7-946E-5BD33CC5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100-35BA-460A-95C7-5785200A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8ED3-848E-4C96-B046-2E038FCF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517-31D1-4EA4-8ECB-8B5C821A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1ED-962F-495A-B87A-78E83A30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8C0A-3B46-498D-B17C-64948867C3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76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Nederland; rechts-staat en democ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3876840"/>
            <a:ext cx="20908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981000"/>
            <a:ext cx="345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sstaa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staat waarin de overheid is ge-bonden aan wettelijke regels die door het parlement zijn goedge-keu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2276640"/>
            <a:ext cx="35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mocra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aatvorm waarbij alle burgers in-vloed hebben op de besluitvor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95280" y="3068640"/>
            <a:ext cx="84978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enmerken rechtsstaa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is gelijk voor de we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 inwoners hebben op de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lfde manier invloed op d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aag hoe het land moet wor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n geregeerd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onafhankelijke rechterlijke mach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grondwet die aangeeft hoe burgers en overheid met elkaar moeten omg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derland; rechtsstaat en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24360" y="1197000"/>
            <a:ext cx="4895640" cy="3106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468360" y="5157720"/>
            <a:ext cx="8497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en en plicht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 burger heeft rechten. Het recht geeft aan wat je mag doen. (b.v. vrijheid v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ingsuiting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 burger heeft plichten. (b.v. belasting betal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788000" y="549360"/>
            <a:ext cx="396072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(In)directe democra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Directe democra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tekent dat via het uitbrengen van stemmen door alle burgers van een land, besluiten worden genomen (= referendum) In de praktijk las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arom hebben wij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directe democra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 Wij kiezen mensen in b.v. de gemeenteraad en de Tweede Kamer die namens ons beslissingen nemen over allerlei za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95280" y="3645000"/>
            <a:ext cx="8497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enmerken parlementaire democra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dat namens het volk beslis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rlement ontstaat door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vrije en geheime verkiezin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alleen jij beslist waar je op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emt en niemand kan weten waar jij op stemt als jij dat niet geheim wil houden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onafhankelijke rechterlijke mach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grondwe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die aangeeft hoe burgers en overheid met elkaar moeten omg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wat de politici wel en niet mog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regering moet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verantwoording afleg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aan het parlemen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wordt beslist met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meerderheid van stemm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hebb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grondrecht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Trias-politica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is van toepassing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68360" y="549360"/>
            <a:ext cx="8497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es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gers van 18 jaar en ouder hebben passie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actief kiesre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68360" y="162864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recht om gekozen te mogen word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68360" y="242100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ef kiesrec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recht om te mogen kiez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43477" b="0"/>
          <a:stretch/>
        </p:blipFill>
        <p:spPr>
          <a:xfrm>
            <a:off x="5003640" y="692280"/>
            <a:ext cx="3672000" cy="4286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9" name="Text Box 5"/>
          <p:cNvSpPr/>
          <p:nvPr/>
        </p:nvSpPr>
        <p:spPr>
          <a:xfrm>
            <a:off x="468360" y="5516640"/>
            <a:ext cx="359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rias-politica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powerpoint bij hoofdstuk 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1-23T11:57:04Z</dcterms:modified>
  <cp:revision>37</cp:revision>
  <dc:subject/>
  <dc:title>Dia 1</dc:title>
</cp:coreProperties>
</file>