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B7E-91CE-4835-919E-8BC8E5F1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BFC-002E-4EE4-8723-A6CC72F9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CA9-2DB8-4234-B800-BD1BADAB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033-8E86-4EC0-AD61-7FD989DF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48A-D93D-4F03-81E2-CE3EE9B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20D-78D2-4A68-B990-6B88B59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E21-F377-4FAE-A00B-01C7083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DB2-6D2C-48B9-ACD2-09F3009B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AD7-A462-4240-82F0-BA6AC0B3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658-7D45-4C7C-A0EC-FCF1C79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873-668A-4C48-9E76-D8CD7BE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AD8-E1D5-40C9-980F-9C9F754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47D-31D4-4A75-B501-BBF82665D6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gemeente en de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67200" cy="217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Rij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 (= het Rijk) laat uitvoering van een deel van het beleid over aan lagere overheden (= gemeenten en provinc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vinc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vooral bezig met ruimtelijke orde-ning en het mili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eente en 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21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al bestu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29240" cy="260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95280" y="3500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nciale Staten (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de vier jaren gaan de burgers v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ar en ouder naar de stembus om de Provinciale Staten (PS) te kiezen. (= het parlement van de provincie).  Aantal leden van de PS hangt af van het aantal inwoners. In Brabant zijn er dat 55. Taak: het controleren van de Gedeputeerde St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5280" y="4869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deputeerde Staten (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t samengesteld door PS. Uitvoerende macht van de provincie. Taak vergelijkbaar met de reg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573408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mmissaris van de Koningin (Cv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rdt benoemd door de Koningin die goed luistert naar wat de P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iemand wil. De CvdK is de voorzitter van GS en 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364500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3493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349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844640"/>
            <a:ext cx="295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eputeerd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256536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mt provinciale besluiten en controleert Gedeputeerde Staten 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st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provinci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765000"/>
            <a:ext cx="3311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s van de Koningin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et in Limburg “Gouverneur”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t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1616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2801880" cy="186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5229360"/>
            <a:ext cx="33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08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nci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6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136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provincie heeft tot taak streekplannen te maken, ze uit te (laten) voeren en te zorgen voor het mil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eekplannen gaan over de inrichting van de provinc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komen recreatie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industr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beschermde natuur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gemeenten mogen veel nieuwbouw woningen neerzetten 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ij na ni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oud van h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vinciale wege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uiten van de provinci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n nooit in strijd zijn m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tten en besluiten op rijks-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(= landelijk niv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952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3645000"/>
            <a:ext cx="439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 en niet-Nederlanders van 18 jaar en ouder die langer dan 5 jaar aaneengesloten legaal in ons land verbl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276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557360"/>
            <a:ext cx="29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ge van Burgemees-ter en Wetho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56536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mt gemeentelijke beslui-ten en controleert het college van Burgemeester en Wethou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gemeent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836640"/>
            <a:ext cx="33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geme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d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eent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5248"/>
          <a:stretch/>
        </p:blipFill>
        <p:spPr>
          <a:xfrm>
            <a:off x="1763640" y="5300640"/>
            <a:ext cx="5543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54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Gem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981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meente heeft tot taak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van wetten en maatregelen va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ijksover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en van de gemeentelijke financien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nnen van gemeentelijke belasting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stellen van het bestemmingspla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Wat mag waar gebouwd word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en voor de openbare orde en veilig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affen van paspoo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40404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1333" t="22047" r="32688" b="11803"/>
          <a:stretch/>
        </p:blipFill>
        <p:spPr>
          <a:xfrm>
            <a:off x="468360" y="620640"/>
            <a:ext cx="158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19:16Z</dcterms:modified>
  <cp:revision>44</cp:revision>
  <dc:subject/>
  <dc:title>Dia 1</dc:title>
</cp:coreProperties>
</file>