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E28E-7EDF-44E4-B73A-8C3EC5189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D6BE-92DD-4C22-9884-88B34B9D7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3392-D195-403F-BEE8-4F4282FAC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C1D5-FADD-4F14-816F-01925BC56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6718-C63B-473F-82A5-3E73E97AF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0A17-B359-45F2-A56E-FFB6998B1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CF1C-29EB-48A2-80C4-EE1FB4BFF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4B98-50F3-4297-B768-219F17AFE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1999-7DA9-4A21-84CF-C97FEF4C9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734B-2FBE-4C70-9516-78185395E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D1F9-D39D-4D06-A6D9-82589083B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9977-AB7A-45A6-B633-4757D66D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568F2-DBEE-480B-BC38-2D986E59AB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692280"/>
            <a:ext cx="705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.LET OP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227640" y="620640"/>
            <a:ext cx="2625840" cy="2232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26920" y="1268280"/>
            <a:ext cx="7058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ze powerpoint gaat over  </a:t>
            </a: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“Ons beeld van </a:t>
            </a:r>
            <a:br>
              <a:rPr sz="1800"/>
            </a:b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criminaliteit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1989000"/>
            <a:ext cx="70581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De powerpoint bevat de basisstof die je moet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kennen om het centraal schriftelijk met succes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te kunnen mak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2997360"/>
            <a:ext cx="705816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rg dus dat j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oed kent en door hebt wat er in dez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a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geet niet ook he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 bestuderen/raadplegen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03280" y="3500280"/>
            <a:ext cx="70581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nder deze basiskennis is het maken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van inzichtvragen – die veel op het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examen voorkomen – onbegonne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we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08360" y="4941720"/>
            <a:ext cx="4249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EEL SUC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64360" y="623736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900000" y="4005360"/>
            <a:ext cx="3167280" cy="2313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539640" y="549360"/>
            <a:ext cx="59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ns beeld van criminalit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1197000"/>
            <a:ext cx="8532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e betrouwbaar is ons beeld van criminaliteit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egenomen gevoelens van onveiligheid omdat media veel aandacht besteden aan criminalitei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it: Inbraken, diefstal en fraude komen meer voor dan geweldsmisdrijv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55640" y="285264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292428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ote invloed van de 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940360" y="2852640"/>
            <a:ext cx="2505240" cy="3229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6" name=""/>
          <p:cNvSpPr/>
          <p:nvPr/>
        </p:nvSpPr>
        <p:spPr>
          <a:xfrm>
            <a:off x="611280" y="3284640"/>
            <a:ext cx="460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edia kunnen beeldvorming laten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ntstaan. Een aantal Marokkanen zijn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rimineel dus alle Marokkanen zijn cri-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inineel.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= voorbeeld van stereoty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8360" y="4653000"/>
            <a:ext cx="460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eggen de media vaak dat we strenger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oeten straffen dan neemt een groot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el van de bevolking dit over. (= pu-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ieke opini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549360"/>
            <a:ext cx="85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stieken brengen criminaliteit in beel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55640" y="285264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4292640"/>
            <a:ext cx="820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lachtofferenquêt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BS vraagt mensen of ze slachtoffer zijn gewees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uit blijkt dat er meer delicten zijn dan wat blijkt uit politiestatistiek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373720"/>
            <a:ext cx="820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aderenquêt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BS vraagt mensen of ze dader zijn gewees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rouwbaarheid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8360" y="981000"/>
            <a:ext cx="85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ntraal Bureau van de Statistiek (CBS) maakt gebruik va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1413000"/>
            <a:ext cx="85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1. 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Politiestatistiek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olitiestatistieken geven geen betrouwbaar beeld van criminaliteit omdat: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angiftebereidheid van slachtoffers en instanties niet altijd even groot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iet alle delicten worden ontdekt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psporingsbeleid van politie heeft invloed op ontdekte misdrijve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 hoeveel tijd wordt er aan opsporing besteed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 richt de politie zich al of niet op bepaalde (bevolkings)groepen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egistratie is mensenwerk; dus fouten worden gemaakt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olitiestatistieken moeten gekoppeld worden aan ontwikkeling van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evolk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55640" y="285264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1773360"/>
            <a:ext cx="82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 aantal vermogensdelicten is sinds 1984 gedaald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620640"/>
            <a:ext cx="85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moeten onderscheid maken tusse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antal gepleegde misdrijven (= absolute cijfers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antal gepleegde misdrijven per honderd inwoners (= percenta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5280" y="2276640"/>
            <a:ext cx="82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weld is de laatste 20 jaar in Nederland toegenom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116000" y="3213000"/>
            <a:ext cx="619128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einde-toets_2394275"/>
          <p:cNvPicPr/>
          <p:nvPr/>
        </p:nvPicPr>
        <p:blipFill>
          <a:blip r:embed="rId1"/>
          <a:srcRect l="30948" t="31377" r="29982" b="27682"/>
          <a:stretch/>
        </p:blipFill>
        <p:spPr>
          <a:xfrm>
            <a:off x="2771640" y="1628640"/>
            <a:ext cx="3024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" dur="250" autoRev="1" fill="hold"/>
                                        <p:tgtEl>
                                          <p:spTgt spid="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" dur="250" autoRev="1" fill="hold"/>
                                        <p:tgtEl>
                                          <p:spTgt spid="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" dur="250" autoRev="1" fill="hold"/>
                                        <p:tgtEl>
                                          <p:spTgt spid="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5:21:23Z</dcterms:created>
  <dc:creator>jan van gils</dc:creator>
  <dc:description/>
  <dc:language>en-US</dc:language>
  <cp:lastModifiedBy>jan van gils</cp:lastModifiedBy>
  <dcterms:modified xsi:type="dcterms:W3CDTF">2012-02-05T15:57:00Z</dcterms:modified>
  <cp:revision>39</cp:revision>
  <dc:subject/>
  <dc:title>Dia 1</dc:title>
</cp:coreProperties>
</file>