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A740-B833-4F36-BBD7-FE1464A919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D7DD-69EB-4D14-8FDF-C70CA8E805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77BE-ADCB-4FFF-96AE-0FCC85D7C0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83CB-C186-4431-8C7A-552D0DD142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D98-6A0A-4B6C-90DE-F7ED5155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4B1-0C78-461B-96E9-C9D8433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A87-F50F-41FA-A97F-4969372A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33F-D45A-4F58-B98D-90A15710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2F5-9443-4986-A60B-CE1D7E3F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255-75FB-4363-BF1D-598C2D3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A23-8160-4EEE-8CC3-F264DCA9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C6D-8A20-4BE1-B34F-78637BF2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578-F011-4DE7-BA5F-0D69C97E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2D2-3ED9-4D69-8368-E94DB77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2D7-DFB7-4D7B-A349-E709528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630-2487-494D-B315-39A2649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7584-0A68-43CE-8BA8-4F2542238B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Regels e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recht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5040" cy="19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 en 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le vormen van gedrag die volgens de wet strafbaar zij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2060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en rech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s en rechten zijn omschreven in wet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rondwet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grondwet staan de basisregels van onze democratie beschrev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e grondrechten als burgers en de manier waarop onze staat is ge-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ee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dere wett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ere wetten mogen nooit in strijd zijn met de grond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-  Wetboek van Strafre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Opium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genverkeers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 economische deli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55640" y="1125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anderen door de tijd he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omoseksualiteit strafbaar, nu niet mee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et inbreken in iemand anders zijn computer 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ar. Er bestonden immers geen computers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ntificatieplicht is er pas sinds 200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501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schillen per plaat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Nederland is het  homohuwelijk toegestaan maar in veel landen niet.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uurwapens zijn voor bijna iedereen in Nederland verboden in de V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het een grondrecht om een wapen te mogen bezitte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verboden-toegang_groot"/>
          <p:cNvPicPr/>
          <p:nvPr/>
        </p:nvPicPr>
        <p:blipFill>
          <a:blip r:embed="rId1"/>
          <a:stretch/>
        </p:blipFill>
        <p:spPr>
          <a:xfrm>
            <a:off x="2050920" y="2781360"/>
            <a:ext cx="4392720" cy="183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e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197000"/>
            <a:ext cx="777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at waarin de burgers worden be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md tegen machtsmisbruik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llekeur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derland is een rechtsstaat wa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n en plichten van de burger liggen vast in de (grond)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verheid zorgt voor rechtshandhaving en rechtsbescherm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een democratisch gekozen parleme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scheiding va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gev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uitvoer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echterlijke macht</a:t>
            </a:r>
            <a:br>
              <a:rPr sz="18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merking: In Nederland is de scheiding tussen wetgevende en uitvoerende macht niet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olledig doorgevoerd. Dit beperkt onze democratische rechten echter niet. Zie ook de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werPoint  ‘Staat en regering’.</a:t>
            </a:r>
            <a:br>
              <a:rPr sz="1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spraak opereert onafhankelijk van de over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rechtsstaat"/>
          <p:cNvPicPr/>
          <p:nvPr/>
        </p:nvPicPr>
        <p:blipFill>
          <a:blip r:embed="rId1"/>
          <a:srcRect l="14789" t="27624" r="12900" b="18081"/>
          <a:stretch/>
        </p:blipFill>
        <p:spPr>
          <a:xfrm>
            <a:off x="5003640" y="765000"/>
            <a:ext cx="3168720" cy="15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8:48:02Z</dcterms:modified>
  <cp:revision>45</cp:revision>
  <dc:subject/>
  <dc:title>Dia 1</dc:title>
</cp:coreProperties>
</file>