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133-3674-4639-91E8-38210BC0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D36-26B3-423F-94A4-59739556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732-68DB-4C80-A6D9-54070FF0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B95-B038-4E6E-B7C8-88EC9567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FC3-C220-4774-84A4-6B9DA072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D11-E7EB-4FA8-83C1-1ECC678A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6B9-B51D-4C6D-82F0-D5CE1CDA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4DE-2CDF-4DF5-9BB7-7323580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89B-0819-4249-BE64-F0D9CE68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6DE-251A-4222-9969-752BF08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9A6-B3FE-4FB1-A278-2C00033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470-E0C5-4176-B91A-9E26E45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C63A-07D4-4E9C-9560-E0E19FED86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Linkse en rechtse partij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2483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vragen zijn:</a:t>
            </a:r>
            <a:br>
              <a:rPr sz="1600"/>
            </a:br>
            <a:r>
              <a:rPr b="1" lang="nl-NL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nneer noemen we een politieke partij rechts of links en conservatief of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 progressief?”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2.  “Welke politieke partijen zijn er in Nederl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oor een antwoord op vraag 2 zie de powerpoint van hoofdstuk 4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637000"/>
            <a:ext cx="820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hts links conservatief progres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 in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rvat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ven naar vera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estand:Pol-landschap-2010.gif"/>
          <p:cNvPicPr/>
          <p:nvPr/>
        </p:nvPicPr>
        <p:blipFill>
          <a:blip r:embed="rId1"/>
          <a:srcRect l="0" t="0" r="0" b="1638"/>
          <a:stretch/>
        </p:blipFill>
        <p:spPr>
          <a:xfrm>
            <a:off x="611280" y="549360"/>
            <a:ext cx="4319640" cy="42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10:56:40Z</dcterms:modified>
  <cp:revision>64</cp:revision>
  <dc:subject/>
  <dc:title>Dia 1</dc:title>
</cp:coreProperties>
</file>