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E98-79A2-4DD2-898E-3CA7623A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0B8-3612-4395-9A7C-F83008D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6C4-B5E0-406E-9E23-1C34A68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CB8-F806-44D5-96EC-82C6FD72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1A0-5561-4731-B647-903B987F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88A-11EC-493B-BFFB-6112D70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BCA-F6FB-48A0-AC00-6EB021D6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306-3EFF-4266-A164-71C71B0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C46-157E-4CB4-8D7F-27B6D4F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26B-C5B3-44D1-96D3-ACF8CB5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89-F56E-4CB6-B0C8-AD51004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DE-3DCE-49DC-88C0-AC1B237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607-7C2E-4945-8D09-87C17B00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50816_supportersgeweld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Van politie naar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offic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20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 politie naar offi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052640"/>
            <a:ext cx="806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vraag van dit hoofdstuk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ke procedure moet worden gevolgd als er een strafbaar feit is geconsta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van de pol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t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por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nstverlening en adv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19640" y="407664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heeft speciale bevoegdheden als het ga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het handhaven van de 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mand verplichten door te lop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eren op wettelijk verplichte papie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keu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en nodig geweld gebrui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916280"/>
            <a:ext cx="1822680" cy="20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39640" y="549360"/>
            <a:ext cx="80647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weg wijzen, verloren kinderen opsporen enz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poringstaak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(bij strafbare feit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mand staande mogen houden (= naam en adres vragen)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iller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houden (= arrest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houden (= in bureaucel opsluiten)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agleggen (bv. Van gestolen goed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szoeking d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s uur vasthouden voor verhoo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 2x drie dagen verlengd worden door de officier van justitie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g langer vasthouden kan met toestemming van de rechter-commi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r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egdheden van de politie staan precies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mschreven om de rechten van de burger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besche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re feiten voorkomen zoals waarschuwen voor zakkenrollers maar ook fietsen grav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enstverlening en advie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vies geven hoe b.v. inbraak kan voorkom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keer regelen bij bv. een verkeersongelu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804000" y="184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270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inbreker wordt opgepakt en dan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97360"/>
            <a:ext cx="9352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653000"/>
            <a:ext cx="1224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lpofficier van 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4653000"/>
            <a:ext cx="1440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er-commiss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4797360"/>
            <a:ext cx="13687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661000"/>
            <a:ext cx="1657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ren + n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589720"/>
            <a:ext cx="1729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 dagen + 3 da-gen verle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734080"/>
            <a:ext cx="1079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5734080"/>
            <a:ext cx="136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x 30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157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229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5157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94172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013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9337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h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2303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zeke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933720"/>
            <a:ext cx="2017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bewa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19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vangenho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284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lang kun je vastgehouden w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640" y="404640"/>
            <a:ext cx="806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er van justitie  (= openbare aankl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ekt namens de samenleving bewijzen tegen de verdachte (= openb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klag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t straf tegen de verdachte tijdens het pro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 officieren van justitie = Openbaar Ministerie (OM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dverantwoordelijke voor het OM is de Minister van Just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2928" t="0" r="22699" b="0"/>
          <a:stretch/>
        </p:blipFill>
        <p:spPr>
          <a:xfrm>
            <a:off x="468360" y="2852640"/>
            <a:ext cx="1946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0920" y="530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Ivo Opstelten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Min. van Justitie (VV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997360"/>
            <a:ext cx="590544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e constateert strafbaar feit en stelt een proces verbaal 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73360"/>
            <a:ext cx="590400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.l.v. officier van justitie volgt opsporingsonderzoek door pol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149720"/>
            <a:ext cx="50418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beslist of er een rechtszaak kom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357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724280"/>
            <a:ext cx="439272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eist straf tijdens rechtsza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508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300640"/>
            <a:ext cx="2449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hter doet ui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4897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zorgt dat straf wordt uitgevoer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5084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56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421000"/>
            <a:ext cx="30258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oop van een strafz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9640" y="549360"/>
            <a:ext cx="806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 of niet naar d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en opsporingsonderzoek wordt een dossier aangeleg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ar aanleiding van het dossier zijn er drie mogelijkh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on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betekent dat er wordt afgezien van verdere rechtsvervol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ik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vindt geen verdere vervolging plaats wanneer de verdachte een bepaalde geldboete wil beta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vol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aak komt voor de rec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09420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11280" y="429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4508640"/>
            <a:ext cx="244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chtsgang en wat er voor de rechter gebe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 naar het filmp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9T19:14:40Z</dcterms:modified>
  <cp:revision>51</cp:revision>
  <dc:subject/>
  <dc:title>Dia 1</dc:title>
</cp:coreProperties>
</file>