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ACA-E9F3-45C5-B3F2-C21CF851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034-4163-4BBA-9AE1-960D21C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CDE-BF2F-441D-9F91-AB2C4C71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ECA-D37C-4E38-86C5-73EECA61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F8C-6EFF-463C-A601-140EDA05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50C-5618-4D91-A956-D46431E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696-E89F-4055-BEE9-3E7858EE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C22-D3E2-471E-AD03-5D2119EE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0FB-DA05-4DB6-BB4D-E8E5340F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662-6ACC-447E-BAD4-60718E1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BD3-F929-48E7-91D2-2EC9EC5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D08-E79D-453F-9D88-B80B69D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9EE4-CA87-4E36-AB95-D2C81E5AE1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70829_geschiedeniseu0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hooltv.nl/beeldbank/clip/20070829_geschiedeniseu01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81013_groeieu01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907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elke invloed heeft de Europese Unie op Nederlan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iedeni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van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conomische samenwerking op gebied van kolen en sta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Vergroten van veilig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lux (België/Nederland/Luxemburg) Frankrijk, Duitsland en Itali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500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 maar dan voor meer economische gebieden dan alle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en en staal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95280" y="465300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uropes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en samenwerking op economisch gebied maar ook bv. Cul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re democratische Europese landen mogen ook lid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68360" y="476280"/>
            <a:ext cx="81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volg geschieden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572000" y="530064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er in 1 minuut het ontstaan van de Europese U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360" y="90792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Un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e gemeenschappelijke handelsmarkt d.w.z.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 verkeer van goederen, diensten, geld en mensen door opheff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binnengrenz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deren van eerlijke concurren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schappelijk landbouw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werking op gebied v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tenland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d4ec891-0b71-42fc-9f11-b26be6f4eac1_european_union_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3097440" cy="308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 van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2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97000"/>
            <a:ext cx="4897440" cy="489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yn007_original_230_230_gif_2616433_045200ad0f6ddc4359e05e37fcbfbe38"/>
          <p:cNvPicPr/>
          <p:nvPr/>
        </p:nvPicPr>
        <p:blipFill>
          <a:blip r:embed="rId3"/>
          <a:stretch/>
        </p:blipFill>
        <p:spPr>
          <a:xfrm>
            <a:off x="6877080" y="285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8360" y="476280"/>
            <a:ext cx="813744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vloed van de EU op Nederlan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7 van de 27 landen hebben de Euro als mu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(Let op het boek spreekt over 12 landen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        dat is dus achterhaal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2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België, Duitsland, Finland, Frankrijk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Griekenland Ierland, Italië, Luxemburg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Nederland, Oostenrijk, Portugal en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panje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7: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8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Cyprus en M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9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wakijë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Est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6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1871640" cy="186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5148360" y="1989000"/>
            <a:ext cx="399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delen van één munt            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de Euro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geld omwisse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us geen koersverl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ordert handel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lvaar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em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alle lidstaten (b.v. Grieken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nd en Italié) houden zich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afgesproken strenge begr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ngsregels waardoor er econ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sche problemen ont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836640"/>
            <a:ext cx="83534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van de consument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rechten worden met Europese wetten bescher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ondheid en veil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elijke strenge gezondheids-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veiligheidseisen in alle EU-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biel bel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oedkoper mobiel bellen i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uiten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rechten voor man en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bescherming en verbod op dierpro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burgerschap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ciale rechten voor burgers binnen de EU zoal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v. vrij reizen, wonen, wer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nsenrechten en democratische beginse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rijding discrimin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e verkiezingen en stem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udie- en stagemogelijkhed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loed van de EU op Nederland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mobieltje_oke"/>
          <p:cNvPicPr/>
          <p:nvPr/>
        </p:nvPicPr>
        <p:blipFill>
          <a:blip r:embed="rId1"/>
          <a:stretch/>
        </p:blipFill>
        <p:spPr>
          <a:xfrm>
            <a:off x="6084720" y="2205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5280" y="836640"/>
            <a:ext cx="8353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wikkel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stuur en de verdeling van de werkelijke macht binnen Europa zit ingewikkeld in elkaar. Hoewel he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en officieel wettelijk bestuursorga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, is het de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uropese Ra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de vergadering van Europese regeringsleiders)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die in wezen de dienst uit maak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sorgan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uur va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49236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651640" y="278136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08000" y="278136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5373720"/>
            <a:ext cx="475128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n van wetsvoorstell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ontroleren of lidstaten de Europese wetten uitvo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3924360" y="5013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19564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4360" y="4076640"/>
            <a:ext cx="23763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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/ afke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uropese commissie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516720" y="4076640"/>
            <a:ext cx="23032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of afke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 flipV="1">
            <a:off x="738036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539640" y="5157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964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242100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5640" y="83664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1619280" y="321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1619280" y="16282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292720" y="981000"/>
            <a:ext cx="266400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Reg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987640" y="1197000"/>
            <a:ext cx="2303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3203640" y="1341000"/>
            <a:ext cx="2663640" cy="302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692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692360" y="1916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995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2349360"/>
            <a:ext cx="3456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uropese Commissie ontwerpt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wet en legt die ter goedkeu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voor aan het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het Parlement de w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t legt deze de wet 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ing voor aan de Ra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Min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eren de wet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se Commissie controlee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e 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Europese wetten go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voer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3348000" y="522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627280" y="260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ontstaat een wet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951280" cy="1984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4932360" y="4076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jnissen van de SP heeft het niet zo op Europa. Kijk en luister naar zijn me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5148360" y="508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praak in Europa en knelpu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836640"/>
            <a:ext cx="835344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Hof van 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t uitspraken over zaken die met de Europese wetten hebben te m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 in de E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Europese regels beperken de zeggenschap van lidstaten binnen hun eigen la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Er is nog te weinig democratische controle mogelijk.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is een log en bureaucratisch gehe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et de EU nog wel groter worden met nog meer land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rbeiders uit lagelonenlanden gaan werk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t rijkere noordwest Europ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bedrijven gaan zich vestigen in de lidstaten met lage lonen ten koste van d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gelegenheid van de rijkere 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08:55:06Z</dcterms:modified>
  <cp:revision>57</cp:revision>
  <dc:subject/>
  <dc:title>Dia 1</dc:title>
</cp:coreProperties>
</file>