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788-6484-4EEA-A505-ED871794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9A8-54B5-4419-8E9A-DD39B6FE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283-8417-4C32-8266-69BBA7B2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AB8-19B9-44B2-8380-8BC84AB6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EEE-311D-4970-BFCA-8D7EA62E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973-2D96-4644-9EA8-FE7449DC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8FC-8C0F-427B-B99F-30A67B7A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A46-02A0-4A0A-8194-E6717A5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360-3F31-48C6-B8BC-1B934EE2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FB3-A869-44D1-9DF4-569A6777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D49-5982-4AE7-8D11-25C4B1A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83C-311F-4E46-ABDC-91E9B92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3643-36BE-4C4D-9AFA-35185CF1EC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orzaken va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21300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7336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508464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12064" t="8099" r="6304" b="10894"/>
          <a:stretch/>
        </p:blipFill>
        <p:spPr>
          <a:xfrm>
            <a:off x="468360" y="4221000"/>
            <a:ext cx="388764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orzaken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777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 komt het dat sommige mensen crimineel worden en anderen ni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en (19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d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euw)  :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riminaliteit is aangeboren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                         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edrag van het individu los zien van and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aatschappelijk verschijns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28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 worden crimine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eslach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Jongens meer dan meisjes (zie hoofdstuk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64500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eeftij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Veel tussen 16 en 23 ja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Zware criminalite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volwass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437000"/>
            <a:ext cx="835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aatschappelijke positi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la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inbraak en agressieve delic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hoge maatschappelijke positi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oral witteboordencriminalite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end naar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etnische afkomst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oorzaak criminaliteit vaak een combinatie van leeftijd en lage maatschap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pelijke positie (verschil in opvoeding jongens en meisjes komt vo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11374" r="0" b="11374"/>
          <a:stretch/>
        </p:blipFill>
        <p:spPr>
          <a:xfrm>
            <a:off x="5796000" y="3141720"/>
            <a:ext cx="2830320" cy="30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692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el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13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roepsdru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eel gedrag kan status geven in de groep.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89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angeboren en aangeleerde eigenschapp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Criminaliteit is meestal aangeleerd (opvoeding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Soms kunnen ook karaktereigenschappen crimineel gedrag bevorderen</a:t>
            </a:r>
            <a:br>
              <a:rPr sz="18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85264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Opvo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waarlozing, mishandeling kunnen leid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psychische problemen en/of gedrag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oornissen wat kans op crimineel gedrag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t toenemen.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221000"/>
            <a:ext cx="835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br>
              <a:rPr sz="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cohol en drugs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genomen gebruik leidt tot meer gewelds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v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bij veel gebruik nemen remmingen a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76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 op crimineel gedrag wordt beïnvloed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41300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rmverva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er binding (familie), werkeloosheid, niet naar school gaan leiden t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niet (meer) accepteren van de normen van de samenleving wat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inaliteit bevordert. </a:t>
            </a: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565360"/>
            <a:ext cx="8353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inder sociale control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individualisering (ik-cultuur) van de samenleving staat minder sociale con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le (= letten op elkaar) t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veel mensen bij elkaar (b.v. flats in grote steden) leidt tot anonimiteit (= el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ar niet kennen) zodat mensen minder op elkaar letten en zich mind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antwoordelijk voelen voor elk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der sociale control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agere pakkan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meer gelegenheid tot crimi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liteit</a:t>
            </a:r>
            <a:r>
              <a:rPr b="0" lang="nl-NL" sz="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= gelegenheidsmoti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79736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4460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lechte leefomstandighed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ede en werkelooshei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itzichtloosheid en afnemend vertrouw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 maatschappij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enemende neiging tot criminaliteit </a:t>
            </a:r>
            <a:br>
              <a:rPr sz="400"/>
            </a:br>
            <a:br>
              <a:rPr sz="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8:17Z</dcterms:modified>
  <cp:revision>43</cp:revision>
  <dc:subject/>
  <dc:title>Dia 1</dc:title>
</cp:coreProperties>
</file>