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EC5-1AF3-47B1-9C22-87B89A72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C22-D7CA-4A52-B2BE-8DD9663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D34-82D3-4121-AEBA-12F3554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805-2BFA-4FAC-8D3A-0DAEE67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E58-DD7D-4803-BE81-3966BC9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1C6-5E18-4C3A-A220-8355270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A43-027D-4501-A360-CAC6955D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11F-F11C-4304-AC5E-A1059E1F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6A1-43C4-49DC-9480-2576787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A94-F4E8-4798-BD3B-8A80D29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2F7-AEE9-4099-876D-987C5DBE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206-5038-4CD2-92AB-6FDC5E8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2BC6-0024-452E-A9C5-6E6A0C3958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395280" y="2637000"/>
            <a:ext cx="8064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 (Recht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209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23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al-democratie (Links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v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hristen-democratie (Midd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8" descr="Afbeeldingsresultaat voor rechts extremisme"/>
          <p:cNvPicPr/>
          <p:nvPr/>
        </p:nvPicPr>
        <p:blipFill>
          <a:blip r:embed="rId2"/>
          <a:stretch/>
        </p:blipFill>
        <p:spPr>
          <a:xfrm>
            <a:off x="5313240" y="4437000"/>
            <a:ext cx="160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hthoek 5"/>
          <p:cNvSpPr/>
          <p:nvPr/>
        </p:nvSpPr>
        <p:spPr>
          <a:xfrm>
            <a:off x="395280" y="404640"/>
            <a:ext cx="777708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Ecologische 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atuu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g zo min mogelijk worden aangetast door mensen. Burgers moeten zich milieubewust gedragen. Groen Links en de Partij voor de Dieren zijn voorbeelden van milieupartij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opul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een stijl van politiek bedrijven. Inspelen op de onderbuik gevoelens van het volk. Zij zijn van mening dat zij als enige de ‘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l van het vol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’ kennen en bereid zijn daarnaar te luisteren. Deze partijen hebben vaak zeer nationalistische standpunten. Dus tegen Europa en tegen immigratie. Pvv en Sp zijn voorbeelden hierva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7" descr=""/>
          <p:cNvPicPr/>
          <p:nvPr/>
        </p:nvPicPr>
        <p:blipFill>
          <a:blip r:embed="rId1"/>
          <a:stretch/>
        </p:blipFill>
        <p:spPr>
          <a:xfrm>
            <a:off x="1187280" y="3730680"/>
            <a:ext cx="364356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Afbeelding 8" descr=""/>
          <p:cNvPicPr/>
          <p:nvPr/>
        </p:nvPicPr>
        <p:blipFill>
          <a:blip r:embed="rId2"/>
          <a:stretch/>
        </p:blipFill>
        <p:spPr>
          <a:xfrm>
            <a:off x="5003640" y="420048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9" descr=""/>
          <p:cNvPicPr/>
          <p:nvPr/>
        </p:nvPicPr>
        <p:blipFill>
          <a:blip r:embed="rId3"/>
          <a:stretch/>
        </p:blipFill>
        <p:spPr>
          <a:xfrm>
            <a:off x="7053120" y="6116760"/>
            <a:ext cx="14842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8:46Z</dcterms:modified>
  <cp:revision>66</cp:revision>
  <dc:subject/>
  <dc:title>Dia 1</dc:title>
</cp:coreProperties>
</file>