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DBB-D075-4F53-B49E-0E6F8316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35B-B60E-497E-9C87-88A4D2E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20D-7D30-4CF2-A69D-D3B36ECA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C5C-B664-45BD-9F06-ADD849FA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5E0-5F35-4F8C-B2CB-EB59E46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8C9-10BB-4AB1-A004-70497835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327-34DC-4879-87E4-77875F4A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B7D-9E3A-44F1-92AD-C0544B3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B1E-AD6A-442E-824F-337A129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1F8-0ECC-4B6A-9714-322D50B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86A-DA97-4FF5-A090-9622A76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AE3-9930-40FF-A730-58A57B4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BB1-EA90-4D35-B2FA-FFBBB365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e besluitvo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72000" cy="209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Hoe verloopt de politiek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 als deelvra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 “Hoe leidt een maatschappelijke probleem in de samenleving tot politieke besluiten?”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  “Welke invloed hebben ambtenaren en politieke partijen op de besluitvorming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068640"/>
            <a:ext cx="820728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luitvorming in 4 fa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er: uiten van wensen waardoor het als een politiek probleem wordt erke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beeld: Het willen verhogen van de maximumsnelheid naar 130 km/u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 zoveel mogelijk snelwe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stande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utomobilis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rijfsl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genstande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beweg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die in de buur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de snelweg w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292640"/>
            <a:ext cx="574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4437000"/>
            <a:ext cx="3313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ze groepen proberen hun idee-ën en eisen onder de aandacht van politici te brengen o.a. via de massame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door kan een vraagstuk op de politieke agenda kom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265" t="0" r="6265" b="0"/>
          <a:stretch/>
        </p:blipFill>
        <p:spPr>
          <a:xfrm>
            <a:off x="5796000" y="549360"/>
            <a:ext cx="2016000" cy="141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333360"/>
            <a:ext cx="8207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zetting: het afwegen van de politieke problemen en het bedenken van een oplo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 voorbeeld: Wat krijgt de prioriteit? De economie (130 km/uur) of het milieu (geen 130 km/uur). Op alle snelwegen of op een gedeelte 130 km/uur of helemaal ni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 wordt een oplossing bedacht / keuze gemaak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heet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beleidsvoorberei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492280"/>
            <a:ext cx="8207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3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Omzetting: de besluitvormings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een besluit genomen door het kabinet en daarna beslist de volksvertegenwoor-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(Op gemeentelijk niveau het College van Burgemeester en Wethouders en de gemeenteraad en op provinciaal niveau Gedeputeerde Staten en de Provinciale Stat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437000"/>
            <a:ext cx="5689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Fase 4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itvoer: besluiten uitv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esluit wordt uitgevoerd. 130 km/uur op diverse snelwe-gen is een feit. Mensen uiten hun ervaringen met het besluit en delen die weer met de publieke opinie en politici. Dit heet </a:t>
            </a:r>
            <a:r>
              <a:rPr b="1" i="1" lang="nl-NL" sz="1600" spc="-1" strike="noStrike">
                <a:solidFill>
                  <a:srgbClr val="ff3300"/>
                </a:solidFill>
                <a:latin typeface="Arial"/>
              </a:rPr>
              <a:t>terugkoppel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kan weer leiden tot fase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611280" y="4437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344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bten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907920"/>
            <a:ext cx="7775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 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antwoordelij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ar ze kunnen niet zonder 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undigheid en ervaring van ambtenare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, gedeputeerden en wethouders zijn vaa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enkele jaren in functie.  Ambtenaren blijv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jaren op hun post. Ze zijn een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aste waar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 bovenstaande volgt dat hoge ambtenaren vee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olitieke invlo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b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4480" t="17050" r="12240" b="9018"/>
          <a:stretch/>
        </p:blipFill>
        <p:spPr>
          <a:xfrm>
            <a:off x="6156360" y="907920"/>
            <a:ext cx="251928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12000" y="328464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eke parti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789360"/>
            <a:ext cx="79916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partijen spelen een grote rol tijdens de besluitvorming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rengen hun standpunten naar vor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beïnvloeden mensen in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leveren mensen voor politieke funct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Ze vertegenwoordigen regelmatig belangen van maatschappelijke organisa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loed van een regeringspartij is groter dan van een oppositieparti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één partij heeft in Nederland de meerderheid. Daarom moeten partij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handelen over samenwerking en dus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ompromis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ui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02-22T19:15:45Z</dcterms:modified>
  <cp:revision>54</cp:revision>
  <dc:subject/>
  <dc:title>Dia 1</dc:title>
</cp:coreProperties>
</file>