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C03-5AE8-440E-AC7C-FBCA8B9C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EEE-6E95-44BF-963E-90938EA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759-CA25-4087-85D8-50E7858C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DFA-3996-4AC7-B2B4-F2BAF501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06C-554A-4557-A8C9-E64420B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A98-7F35-4EE7-B267-16C593B4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C19-6408-4FE0-B7CF-A4493A49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6FE-65D2-45AA-AA24-802FDD03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647-3585-48D9-95AD-E0D24BC9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2C8-366C-4548-8D42-8122F08A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16D-F597-477A-AF40-FB5709FE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AF1-5FF7-4DD1-AA1E-EDEBB94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2F22-A472-4AD2-A3B6-19A7DACB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het onderwerp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Voor de recht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716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5734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or de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dit hoofdstuk staat de volgende vraag centra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 gebeurt er als de officier van justitie besluit dat je naar d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hter mo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349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492280"/>
            <a:ext cx="4608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vol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 de officier van justitie besluit tot vervolging dan krijg je e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gvaard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in staa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om je voor de rechter mo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ar je voor de rechter moet verschijn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je moet verschij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rechter beslist over een  verdachte dus spreken we ov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frech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9747" t="9823" r="12224" b="39855"/>
          <a:stretch/>
        </p:blipFill>
        <p:spPr>
          <a:xfrm>
            <a:off x="5219640" y="2781360"/>
            <a:ext cx="3457800" cy="295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620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insta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256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12536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1844640"/>
            <a:ext cx="151128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echtsh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kennen we drie soorten rechtsinstan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524720" y="220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524720" y="1483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413000"/>
            <a:ext cx="604836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bank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negentien gebieden met elk een rechtba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ke rechtbank heeft verschillende soorten afdelingen en rechter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ntonrechte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or overtredin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recht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lichte misdrij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voudige kam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zwaardere misdrijv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3429000"/>
            <a:ext cx="7921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chtshoven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zijn vijf gerechtsh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wel de verdachte als de officier van justitie kunnen bij het gerechtshof in hoger beroep gaan wanneer ze het met de straf van de rechtbank niet eens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797360"/>
            <a:ext cx="7921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ge 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één hoge ra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de hoge raad kun je in cassatie gaan zoals dat heet. De hoge raad kijkt of de rechtsregels goed zijn toegepas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itspraak gerechtshof is geldig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goed toegepas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rechtshof moet haar werk opnieuw do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7628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loop rechtsza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zie ook laatste filmpje bij hoofdstuk 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83664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rechtszaak bestaat uit 8 stapp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197000"/>
            <a:ext cx="813744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1.  Open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roleren persoonsgegevens van de verdachte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instrueren hoe hij zich moet gedragen tijdens de rechtsz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2.  Aanklach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leest de aanklacht v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3.  Getuigenverhoo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ren van getuigen die zijn opgeroepen door de officier van justitie en de advocaat van de verdachte. Ook deskundigen (b.v. psychiater) kan als getuige worden opgeroep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4.  Verhoor van de verdacht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hoor door de officier van justitie en de advocaa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staat onder e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5.  Requisitoi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fficier van justitie eist straf en beargumenteert d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6.  Pleidooi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end woord van de advoca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7.  Laatste woor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achte mag als laatste zeggen wat hij zelf van de zaak en strafeis vind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8.  De uitspraak door de rec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10224" r="0" b="11353"/>
          <a:stretch/>
        </p:blipFill>
        <p:spPr>
          <a:xfrm>
            <a:off x="6156360" y="3789360"/>
            <a:ext cx="2187720" cy="165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76280"/>
            <a:ext cx="85327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uryrechtspra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kent geen juryrechtspraak. (zie toelichting boek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et von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nen het vonnis spelen 4 vragen een belangrijke 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Is er voldoende bewij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voldoende bewijs volgens de rechter dan volgt vrijspra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Gaat het om iets strafbaar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 geweld is strafbaar. Je mag jezelf bv. tot op zekere hoogte verdedi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Is de dader strafbaar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is iets strafbaars gedaan. De vraag is of het de dader valt aan te rekenen. (zie boe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Welke straf of maatregel wordt opgeleg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29671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476280"/>
            <a:ext cx="806436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gelijke behan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de wet is er geen ongelijke behandeling toegestaan. In de grondwet staat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voor de wet gel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heeft recht op een eerlijk pro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och is er nog sprake van ongelijke behandeling. Een niet-westerse allochtoon heeft in de praktijk in bepaalde situaties meer kans om te worden aangehouden en veroordeeld dan een autochto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ongelijke behandeling heet </a:t>
            </a:r>
            <a:r>
              <a:rPr b="1" i="1" lang="nl-NL" sz="1600" spc="-1" strike="noStrike">
                <a:solidFill>
                  <a:srgbClr val="ff0000"/>
                </a:solidFill>
                <a:latin typeface="Arial"/>
              </a:rPr>
              <a:t>klassen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orzaken van ongelijke behandelin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schillen in inkomen, opleiding en scholing leiden tot ongelijk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dedigingskan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rlijke macht heeft ook vooroordelen t.o.v. bepaalde sociale klass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ders van winkeldiefstal (vaker gepleegd door lagere sociale klassen dan hog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) zijn makkelijker op te sporen dan daders van fraude (vaker gepleeg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gere sociale klassen dan lagere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ochtonen worden vanwege cultuurverschillen niet altijd begrep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 de praktijk blijkt dat mensen sneller aangifte doen tegen een allochtoon d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autochto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Naam</cp:lastModifiedBy>
  <dcterms:modified xsi:type="dcterms:W3CDTF">2012-02-28T10:49:05Z</dcterms:modified>
  <cp:revision>47</cp:revision>
  <dc:subject/>
  <dc:title>Dia 1</dc:title>
</cp:coreProperties>
</file>