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94CE-FC84-44DB-8FE9-A0A1BC3DC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4CD3-D057-4E7C-95E4-2D0F97442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8BD2-8344-4585-BCE2-B8FE3CA59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F2E7-89FD-48B7-90F4-6187B5708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49A1-905D-484A-B9C8-D944095E3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2E0D-A048-43A1-BAF2-546125BE4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AF51-392E-4CD0-B5C8-1D359CF02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F6CE-211C-4F55-BFF7-37AFBF7D0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301B-F1AC-47F2-A4B6-174C19102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8B31-B119-4DDC-9170-0D0A74F4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E6EB-71AC-48E5-9DCE-6EB374D2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8CF1-D1B6-4868-BADC-8A028721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2092A-7A78-412D-A078-E83E81F5090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4nieuws.nl/show.php?key=172937&amp;titel=Moordenaar%20bejaarde%20echtgenoot%20niet%20strafbaar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26920" y="1268280"/>
            <a:ext cx="7058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“Het strafrecht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1700280"/>
            <a:ext cx="7058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het centraal schriftelijk met succes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2852640"/>
            <a:ext cx="705816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a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geet niet ook he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03280" y="3284640"/>
            <a:ext cx="70581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der deze basiskennis is het maken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van inzichtvragen – die veel op het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examen voorkomen – onbegonn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08360" y="4653000"/>
            <a:ext cx="4249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64360" y="62373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00000" y="4005360"/>
            <a:ext cx="3095640" cy="2085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539640" y="549360"/>
            <a:ext cx="59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et strafre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119700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rale vraa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 is strafrecht?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1844640"/>
            <a:ext cx="8353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itgangspunten van het strafrecht</a:t>
            </a:r>
            <a:br>
              <a:rPr sz="1800"/>
            </a:br>
            <a:br>
              <a:rPr sz="400"/>
            </a:b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jkend naar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de w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Je kunt alleen worden gestraft voor wat in de wet strafbaar i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Wet bepaalt maximum stra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3141720"/>
            <a:ext cx="8353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jkend naar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de schuldvraag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Onschuldig tot het tegendeel is bewezen (rechter bepaalt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Vóór de uitspraak van de rechter ben je verdacht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Na de uitspraak ben je dader of is er vrijspraak (bij gebrek aan bewij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4365720"/>
            <a:ext cx="83534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jkend naar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het proce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Proces met onafhankelijke en onpartijdige rechter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Bij zware misdrijven drie rechters (= “meervoudige kamer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537372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jkend naar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vrijspraak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Je kan niet voor hetzelfde feit meer keren worden berecht na vrijspraa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0" t="0" r="0" b="2500"/>
          <a:stretch/>
        </p:blipFill>
        <p:spPr>
          <a:xfrm>
            <a:off x="5867280" y="549360"/>
            <a:ext cx="2590920" cy="1727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68360" y="620640"/>
            <a:ext cx="83534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jkend naar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verjaring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Misdrijven en overtredingen kunnen na een aantal jaren niet meer word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vervolg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1484280"/>
            <a:ext cx="8496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jkend naar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noodweer en overmacht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In de strafmaat en/of veroordeling weegt altijd mee of je handelde uit nood-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weer (= zelfverdediging) en/of overmacht (iets strafbaars doen buiten j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schul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2637000"/>
            <a:ext cx="849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jkend naar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leeftijd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Voor jongeren geldt het jeugdstrafre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3357720"/>
            <a:ext cx="849636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ijkend naar </a:t>
            </a:r>
            <a:r>
              <a:rPr b="1" i="1" lang="nl-NL" sz="1800" spc="-1" strike="noStrike">
                <a:solidFill>
                  <a:srgbClr val="ff0000"/>
                </a:solidFill>
                <a:latin typeface="Arial"/>
              </a:rPr>
              <a:t>(on)toerekeningsvatbaarheid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 Wist iemand wat hij deed op het moment van het strafbare feit of was hij/zij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hopeloos in de w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7200" y="4941720"/>
            <a:ext cx="636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rouw hoeft niet de cel in voor moord op haar man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n klein verschil tussen “sterk ontoerekeningsvatbaar” e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ontoerekeningsvatbaar” heeft grote gevolgen voor verdach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lik op de filmproject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6" descr="dyn007_original_230_230_gif_2616433_045200ad0f6ddc4359e05e37fcbfbe3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4360" y="472428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95280" y="404640"/>
            <a:ext cx="835344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 wet</a:t>
            </a:r>
            <a:br>
              <a:rPr sz="1800"/>
            </a:br>
            <a:br>
              <a:rPr sz="400"/>
            </a:b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het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wetboek van strafvorder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at o.a.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en en bevoegdheden rechter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hten en plichten slachtoffer(s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hten en plichten hulpverleningsinstanti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hten en plichten advocat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hten en plichten politi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hten en plichten officier van justiti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hten en plichten van de verdach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314172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hten van de verdach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3429000"/>
            <a:ext cx="835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bent pas verdachte bij een redelijk vermoeden van sch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3789360"/>
            <a:ext cx="835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hebt recht om te weten waarvan je wordt verdach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149720"/>
            <a:ext cx="8497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nl-NL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Je hebt recht op een advocaat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-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Je moet dan wel langer dan 6 uren hebben vastgezeten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ie een advocaat niet kan betalen krijgt een zgn. pro Deo (= gratis) advo-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a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5300640"/>
            <a:ext cx="83534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hebt recht te zwijgen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moet wel meewerken aan het vaststellen van je identitei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moet ook meewerken aan het afnemen van vingerafdrukken of DNA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6227640" y="765000"/>
            <a:ext cx="2368800" cy="2592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95280" y="54936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hten van de verdachte (vervol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83664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tie mag je maar een beperkte tijd vasthouden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e is afhankelijk van waar je van verdacht word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184464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wijs moet op een manier zijn verkregen die volgens de wet mag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 niet dan is het bewijs ongeldig. (= onrechtmatig verkregen bewijs)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155736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wij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256536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ugdstrafre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285264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Kinderen tot 12 jaar kunnen niet door de rechter worden bestraf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Raad van de Kinderbescherming handelt dit af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5280" y="3429000"/>
            <a:ext cx="83534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ngeren tussen de 12 en 18 jaar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an terecht voor de kinderrechter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htszitting niet openbaar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en gevangenisstraf maar jeugddetentie (= tuchtschool)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dertoezichtstelling (= OTS) waarbij een gezinsvoogd het gez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eleid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atsing in opvoedingsinterna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373720"/>
            <a:ext cx="83534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 Bij zware misdaden kan voor 16 t/m 18 jarigen het volwassen strafrech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lde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j uitzondering komen 18 t/m 21 jarigen voor de kinderrecht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250" autoRev="1" fill="hold"/>
                                        <p:tgtEl>
                                          <p:spTgt spid="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8" dur="250" autoRev="1" fill="hold"/>
                                        <p:tgtEl>
                                          <p:spTgt spid="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250" autoRev="1" fill="hold"/>
                                        <p:tgtEl>
                                          <p:spTgt spid="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5:21:23Z</dcterms:created>
  <dc:creator>jan van gils</dc:creator>
  <dc:description/>
  <dc:language>en-US</dc:language>
  <cp:lastModifiedBy>jan van gils</cp:lastModifiedBy>
  <dcterms:modified xsi:type="dcterms:W3CDTF">2012-02-05T15:59:52Z</dcterms:modified>
  <cp:revision>41</cp:revision>
  <dc:subject/>
  <dc:title>Dia 1</dc:title>
</cp:coreProperties>
</file>