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AE2-AB3C-427E-9521-37938EE8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F1C-CC6F-4B9F-8605-D7ECEDE9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299-9749-420C-8CC9-AF54F7C3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165-A91A-44B2-9DA9-1640BDC5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706-1565-4B94-BB0D-8C39746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EE2-F524-446A-BF82-EF1E642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6B7-447D-4DEC-B89B-E26D851A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496-2DB7-48DF-8DC1-5F618D78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93B-E3E0-4DCF-B458-19077DAC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F41-98D8-4BAF-A590-A292690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156-E6AB-4583-93E0-1CFB39E6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C7A-2112-41EC-A3A5-2F2A0BC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34E9-314C-4669-BD52-B062F23BBB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witmunin.com/v/628478/kinderkoor-zingt-aangepast-&apos;kerstliederen&apos;-in-winkelcentrum-voor-opvoedingslij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Criminaliteit,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een probleem?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bully"/>
          <p:cNvPicPr/>
          <p:nvPr/>
        </p:nvPicPr>
        <p:blipFill>
          <a:blip r:embed="rId2"/>
          <a:srcRect l="3685" t="0" r="0" b="0"/>
          <a:stretch/>
        </p:blipFill>
        <p:spPr>
          <a:xfrm>
            <a:off x="900000" y="4221000"/>
            <a:ext cx="309564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54936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riminaliteit, een proble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197000"/>
            <a:ext cx="806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tred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 jaar hechteni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stal geen strafblad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hoge boete of hechtenis blijft de overtred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10 jaar geregistr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sdrij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ximaal levensla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strafblad gedurende 20 jaa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ok strafbaar zij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oging om een misdrijf te ple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medeplichtig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422100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orten crimina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ware criminalitei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roof)moord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kracht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eorganiseerde misdaad (maffiapraktijk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23302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voorkomen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nkeldiefst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dalis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39640" y="54936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 is ‘n maatschappelijk probleem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mensen hebben ermee te maken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bestaan verschillende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ver en er spelen diverse 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rol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overheid bemoeit er zich mee (</a:t>
            </a: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79640" y="213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Sociaal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Aantasting van waarden en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anneer overheid niet ingrijpt gaan mensen eigen rechter sp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Er is materiële en emotionele 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79640" y="3357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Meningen en belan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Zwaardere straffen willen of juist niet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coholgebruik pas bij 18 jaar of juist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79640" y="42926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1617840"/>
                <a:tab algn="l" pos="1973160"/>
                <a:tab algn="l" pos="3857760"/>
                <a:tab algn="l" pos="412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Politiek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nks (b.v. ‘Groen Links’ en ‘SP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lechte leefomstandigheden lei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t meer criminalitei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eleid vooral richten op voorko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criminaliteit (preventie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chts (b.v. ‘PVV en VVD’)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ader verantwoordelij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leid gericht op (streng) straff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repress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riminaliteit"/>
          <p:cNvPicPr/>
          <p:nvPr/>
        </p:nvPicPr>
        <p:blipFill>
          <a:blip r:embed="rId1"/>
          <a:srcRect l="4283" t="3907" r="5703" b="5552"/>
          <a:stretch/>
        </p:blipFill>
        <p:spPr>
          <a:xfrm>
            <a:off x="3851280" y="907920"/>
            <a:ext cx="4896000" cy="357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0" name="Rechthoek 2"/>
          <p:cNvSpPr/>
          <p:nvPr/>
        </p:nvSpPr>
        <p:spPr>
          <a:xfrm>
            <a:off x="395280" y="5300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 nodig bij de opvo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filmprojector en kijk naar het  filmpj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8360" y="476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Jongeren en m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8360" y="90792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ren tussen 16 en 23 jaar plegen veel criminalit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riminaliteit gebeurt vooral door jongens en m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68360" y="234936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orza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ongens mogen vaa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r dan meisjes va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n ouders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geboren verschill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lichaamsk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agressieneig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sdenk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dyn007_original_230_230_gif_2616433_045200ad0f6ddc4359e05e37fcbfbe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4869000"/>
            <a:ext cx="1511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9:06:12Z</dcterms:modified>
  <cp:revision>42</cp:revision>
  <dc:subject/>
  <dc:title>Dia 1</dc:title>
</cp:coreProperties>
</file>