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37B-F099-4230-87F9-AA286008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193-36A6-422E-8139-64A952A5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0B6-24EF-4E8A-99CA-03000B50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366-1DD5-4FAB-89F4-45362262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094-BF86-49B2-A011-0DA98508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BF1-F1E3-49A5-B699-33700487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F63-42B1-473E-9AD5-513E9B50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FA2-4195-44DD-9F60-D1645EDD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36E-0680-4371-B990-2ECA0F59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5C9-8A3F-4999-A206-EE209B2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C0D-2EC0-49B0-86FE-43167AE4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FCE-EAC4-4A44-817B-DCAA004F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D77-7EB7-4E6B-BAE6-A635692C36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Vos, O (Ole) de</cp:lastModifiedBy>
  <dcterms:modified xsi:type="dcterms:W3CDTF">2017-02-06T10:19:53Z</dcterms:modified>
  <cp:revision>71</cp:revision>
  <dc:subject/>
  <dc:title>Dia 1</dc:title>
</cp:coreProperties>
</file>