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A2F1-2176-4E7A-8DCC-6A7DAD33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D76-B5EC-48AD-BF1E-40EB0B15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A3CD-43B2-4D32-A15D-1515BC48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9AE7-BFCE-4758-9A22-0EE0F791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E8A5-BDDE-4746-9CF4-A0B56DDA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5E7F-1A00-41CB-B9A6-56E565FE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32A-49CD-434D-A48B-AFD57724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F4D-4C20-4528-96CB-66D12162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2992-E224-407E-8032-8DE4741E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C1BB-F4A5-4E07-997C-5B30A173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257-F7F4-4BD7-82A0-D0DF3E46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DF91-BB57-4625-978F-52CE8346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577F-83E3-43BD-B233-9C9EA9153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“Burgers, de media en pressiegroepe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42920" y="3933720"/>
            <a:ext cx="2590920" cy="230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t hoofdstuk staat 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Hoe kunnen de media, burgers en pressiegroepen invloed uitoefenen op de politiek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rgers, media en pressiegr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2205000"/>
            <a:ext cx="8207280" cy="41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Invloed van de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formatieve func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formatie geven over politieke besluitvorming via radio, tv, internet en krante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gendafunc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Journalisten zoeken uit wat er onder de bevolking leeft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b.v. kernenergie) Door er aandacht aan te bestede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 de media kan het op de politieke agenda kom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Functie van commentaar en meningsvorming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ia de media wordt er b.v. kritiek geleverd op politieke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uit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ontrolerende func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andelen overheid, bedrijven enz. wel zoals het mo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preekbuisfunc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ia de media kunnen mensen hun mening gev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300720" y="378936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404640"/>
            <a:ext cx="8207280" cy="58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Invloed van de bur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temmen bij verkiezingen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preekrech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bruikmaken van spreekrecht bij hoorzittingen van b.v. gemeenteraa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Lid worden van een politieke partij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elnemen aan partijbijeenkomsten en zo invloed uitoefenen op partijstandpunte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Zelf een politieke partij opri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olksvertegenwoordigers aansprek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tact zoeken met politici en hen vertelle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e je over bepaalde onderwerpen denk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preekbuisfunctie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ia de media kunnen mensen hun mening gev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erzoek indien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agen stellen of b.v. subsidie aanvragen bij College van B. &amp; 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Klacht of bezwaarschrif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dienen / Nationale Ombudsman inschak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edia inschak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essiegroep oprichten of er lid van wo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monstreren en handtekeningenac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6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6659640" y="2421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dyn007_original_230_230_gif_2616433_045200ad0f6ddc4359e05e37fcbfbe38"/>
          <p:cNvPicPr/>
          <p:nvPr/>
        </p:nvPicPr>
        <p:blipFill>
          <a:blip r:embed="rId2"/>
          <a:stretch/>
        </p:blipFill>
        <p:spPr>
          <a:xfrm>
            <a:off x="6659640" y="242100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404640"/>
            <a:ext cx="8207280" cy="56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Invloed van pressiegroe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essiegroepen streven een bepaald belang na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essie groepen (pressie = druk) proberen hun doel te bereiken door: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lobby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= steun proberen te krijgen van politici en invloedrijke personen)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openlijke actie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b.v. handtekeningenacties, staking, blokkades enz.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oorten pressiegroe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belangengroep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tten zich in voor een bepaalde groep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taan meestal voor langere tij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Voorbeelden: ANWB, Winkeliersvereniging, LA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actiegroep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tten zich in voor een duidelijk probleem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estaan meestal voor kortere tij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Voorbeeld: Actiegroep tegen invoering 130 km/uur op snelwe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actieorganisatie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tten zich in voor een duidelijk probleem</a:t>
            </a:r>
            <a:br>
              <a:rPr sz="16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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durende langere tij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Voorbeeld: Amnesty International die zich inzet voor mensenrechten)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6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6732720" y="2276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620640"/>
            <a:ext cx="8207280" cy="57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oe krijgt een pressiegroep ma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nn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rgen dat je veel deskundigheid binnen de groep hebt over het ontwerp waar j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e voor vo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te van de groe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e groter de groep hoe meer ma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l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 geld krijg je nu eenmaal makkelijker zaken geregel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ede contacten met de media geeft meer ma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tic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e politici benadert kan invloed uitoefen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loed = mach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ism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leider met uitstraling en gezag is belangrij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tuur en adviesorga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itting zien te krijgen in besturen en adviesorgan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groot de mach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62388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2880000" cy="1938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jan van gils</cp:lastModifiedBy>
  <dcterms:modified xsi:type="dcterms:W3CDTF">2012-02-22T18:56:54Z</dcterms:modified>
  <cp:revision>58</cp:revision>
  <dc:subject/>
  <dc:title>Dia 1</dc:title>
</cp:coreProperties>
</file>