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0AC-10E5-48D9-ABBF-FA17B879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CE4-F202-48D0-A391-5169F494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68B-DD4E-41DA-A1A9-352926BC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0D2-3DA6-485A-A9BA-E58BAD7F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EF0-42C9-4E80-A687-2B35B48F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5C2-8450-4BA0-8AAD-7583EC2E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724-E07C-49A3-8F7C-1EB9830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261-A39A-4296-BD66-0741C69C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001-D031-4211-8CC8-AB34EF96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327-D90C-41E7-8106-553F247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91D-47A6-4E4E-B30C-ACB558AC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BB8-8C1B-4DF4-9701-6EE8C82E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C231-919A-4E66-847D-98AC0B2CED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9228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.LET OP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258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126828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ze powerpoint gaat over de </a:t>
            </a: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Politiek, staat en</a:t>
            </a:r>
            <a:br>
              <a:rPr sz="1800"/>
            </a:br>
            <a:r>
              <a:rPr b="1" i="1" lang="nl-NL" sz="1800" spc="-1" strike="noStrike" u="sng">
                <a:solidFill>
                  <a:srgbClr val="993300"/>
                </a:solidFill>
                <a:uFillTx/>
                <a:latin typeface="Arial"/>
              </a:rPr>
              <a:t>dict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1628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e powerpoint bevat de basisstof die je moet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kennen om het centraal schriftelijk met succes </a:t>
            </a:r>
            <a:br>
              <a:rPr sz="1800"/>
            </a:b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e kunnen ma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7058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rg dus dat j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ed kent en door hebt wat er in de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a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eet niet ook h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 bestuderen/raadple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28464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der deze basiskennis is het maken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van inzichtvragen – die veel op het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examen voorkomen – onbegonn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we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4653000"/>
            <a:ext cx="424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EL SU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6132" t="6980" r="5187" b="9286"/>
          <a:stretch/>
        </p:blipFill>
        <p:spPr>
          <a:xfrm>
            <a:off x="900000" y="3933720"/>
            <a:ext cx="208764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98100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e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stellen van regels die te mak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bben met het besturen van he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95280" y="227664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= meervoud van he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ord politicu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kozen vertegenwoordigers di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ns het volk besluiten n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24000" y="4653000"/>
            <a:ext cx="8497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tieke nivea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es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der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elijk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rste en Tweede Kam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ord-Brab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nciaal 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lijk niveau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meentera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 &amp; Ma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schapsnivea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schapsra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ek staat en dict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67280" y="1197000"/>
            <a:ext cx="4392360" cy="33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68360" y="3573360"/>
            <a:ext cx="28083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goed besturen is niet eenvoudi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8606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549360"/>
            <a:ext cx="849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a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spreken van een staat wanneer er sprak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va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Een grondgebied (hoeft niet aaneen geslo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zijn maar meestal is dat we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bevol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overheid (= het gez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95280" y="2637000"/>
            <a:ext cx="87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rondgebied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rondgebied = het land, het water (tot maximaal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2 km in zee) en het luchtruim daarbo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70400" y="476280"/>
            <a:ext cx="3576600" cy="417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395280" y="3573360"/>
            <a:ext cx="87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volk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derland bestaat de bevolking uit autochton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allochtonen. (multiculturele samenleving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95280" y="465300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ezag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zag = de overheid die het land, provincie, gemeente enz. bestuurt.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 gezag wordt niet altijd door elk land erkend. (Noord-Cyprus wordt alleen door Turkije als zelfstandig land erkend. Taiwan wordt niet door China als zelfstandig land erkend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84360" y="476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54936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68200"/>
                <a:tab algn="l" pos="534960"/>
                <a:tab algn="l" pos="1973160"/>
                <a:tab algn="l" pos="2330280"/>
                <a:tab algn="l" pos="4394160"/>
                <a:tab algn="l" pos="484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ctatu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dictatuur is een staat waarbij de macht in handen is van één persoon (dictator), een kleine groep mensen of één politieke partij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95280" y="1700280"/>
            <a:ext cx="8748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Kenmerken dictatuu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volk heeft geen politie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n (b.v. vrijheid van me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ngsuiting of partijvorming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bescherming van grond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en zoals onafhankelijke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chtspraak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ger speelt vaak rol als onder-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rukk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08720" y="6237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95280" y="4292640"/>
            <a:ext cx="3095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orbeelden van dictatur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ord-Ko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artoon: Kim Jong Un (medium) by Erl tagged nord,korea,diktator,kim,jong,il,tod,nachfolge,sohn,un,dick,stalinismus,hunger,armut,hoffnung,reformen,nordkorea,kim jong il,tod,nachfolge,sohn,stalinismus,kim,jong,il"/>
          <p:cNvPicPr/>
          <p:nvPr/>
        </p:nvPicPr>
        <p:blipFill>
          <a:blip r:embed="rId1"/>
          <a:stretch/>
        </p:blipFill>
        <p:spPr>
          <a:xfrm>
            <a:off x="3995640" y="2060640"/>
            <a:ext cx="4689720" cy="332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inde-toets_2394275"/>
          <p:cNvPicPr/>
          <p:nvPr/>
        </p:nvPicPr>
        <p:blipFill>
          <a:blip r:embed="rId1"/>
          <a:srcRect l="30948" t="31377" r="29982" b="27682"/>
          <a:stretch/>
        </p:blipFill>
        <p:spPr>
          <a:xfrm>
            <a:off x="2771640" y="162864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07:09Z</dcterms:created>
  <dc:creator>jan van gils</dc:creator>
  <dc:description/>
  <dc:language>en-US</dc:language>
  <cp:lastModifiedBy>Naam</cp:lastModifiedBy>
  <dcterms:modified xsi:type="dcterms:W3CDTF">2012-01-23T11:57:30Z</dcterms:modified>
  <cp:revision>34</cp:revision>
  <dc:subject/>
  <dc:title>Dia 1</dc:title>
</cp:coreProperties>
</file>