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77F-465E-4161-9292-BDC82AE1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717B-4316-4375-9FAA-F237184B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BB71-A8BB-4130-82D6-5FB38B3F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9A07-324F-4B5B-B0A2-BF3BF8C8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0B18-1471-4647-9170-08E7812C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4E64-3536-4552-8FE3-61A6601E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E56E-47DF-4EF3-8ABC-51BEC090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8F2-5940-44CD-B586-ACB99DC9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309F-4689-4E09-B1C8-9371908B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CA8E-18CE-4054-A580-52F0FE6D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4CCE-BCC9-44BF-9563-C67B6E71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60E5-E72A-4E85-8AA9-396DBEB0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CA29-864E-4161-858A-FB822124CB9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Politieke Strominge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920" y="2852640"/>
            <a:ext cx="70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nder deze basiskennis is he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n van inzichtvragen, die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el op het examen voorkom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begonnen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89420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9" descr="zerometer-nietdegrootste"/>
          <p:cNvPicPr/>
          <p:nvPr/>
        </p:nvPicPr>
        <p:blipFill>
          <a:blip r:embed="rId2"/>
          <a:stretch/>
        </p:blipFill>
        <p:spPr>
          <a:xfrm>
            <a:off x="900000" y="3933720"/>
            <a:ext cx="3961080" cy="2514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1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entrale gegev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ltieke stromingen i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Een geheel van ideeën over wat belangrijk is in de maatschappij </a:t>
            </a:r>
            <a:br>
              <a:rPr sz="1600"/>
            </a:b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en hoe mensen het beste met elkaar kunnen samenleve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entraal in dit hoofdstuk staat de deelvraag:</a:t>
            </a:r>
            <a:br>
              <a:rPr sz="1600"/>
            </a:b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“Wat willen het liberalisme, het socialisme en het confesionalisme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Politieke strom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3"/>
          <p:cNvSpPr/>
          <p:nvPr/>
        </p:nvSpPr>
        <p:spPr>
          <a:xfrm>
            <a:off x="395280" y="2637000"/>
            <a:ext cx="82072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Liberalism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tstaan in de eerste helft van de 19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euw vanuit de Franse revolutie. Burgers eisten vrijheid tegenover de macht van koning en de a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ersoonlijke vrij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rgers willen individuele vrijheid. Iedereen moet zoveel mogelijk zijn eig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issingen nemen.  Overheid moet deze persoonlijke vrijheid bescher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conomische vrij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n moeten vrij zijn om voor zichzelf te zorgen; bedrijven te starten. Er moet zo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einig mogelijk regelgeving zijn zodat de economie maximaal de ruimte krij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ersoonlijke belang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n die hard werken mogen gerust meer verdienen. Grote inkomensverschill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s geen probleem voor liberalen. Lage belastingen (bevordert de economie) en lag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itkeringen (zet mensen eerder aan tot werken) zijn liberale items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VD is een voorbeeld van een liberale part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2" descr="view"/>
          <p:cNvPicPr/>
          <p:nvPr/>
        </p:nvPicPr>
        <p:blipFill>
          <a:blip r:embed="rId1"/>
          <a:stretch/>
        </p:blipFill>
        <p:spPr>
          <a:xfrm>
            <a:off x="7020000" y="260280"/>
            <a:ext cx="16081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68360" y="404640"/>
            <a:ext cx="82072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Socialism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tstaan tijdens de industriële revolutie in de tweede helft van de 19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euw. Het liberalisme leidde tijdens de industriële revolutie (ontstaan van fabrieken) tot uitbuiting van de arbeiders door de rijke industriëlen. Economische vrijheid leidde zo tot misstan-d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lijk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listen (ook wel sociaaldemocraten genoemd) streven naar gelijke kansen v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en ongeacht de afkomst. Gelijkheid en gelijkwaardigheid staan bij hen hoog i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vaan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lijke kans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aldemocraten zijn voorstander van een actieve overheid. Zwakkeren moet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er kansen krijgen en daarin heeft de overheid een belangrijke rol. Sociaal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mocraten willen dan ook graag dat lagere inkomens sneller stijgen dan hoge (dit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et nivelleren = verschil verkleinen) en dat mannen en vrouwen zowel thuis als i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samenleving het werk eerlijk verdelen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vdA en SP zijn voorbeelden van partijen voor wie het socialisme belangrijk 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hippogallery%3Apicture&amp;sa=X&amp;ei=4bRcT_CoDcSgOsK-vPkM&amp;ved=0CAwQ8wc&amp;usg=AFQjCNGi9swkjSyPj9p91hW-EhF3SBUSJw"/>
          <p:cNvPicPr/>
          <p:nvPr/>
        </p:nvPicPr>
        <p:blipFill>
          <a:blip r:embed="rId1"/>
          <a:stretch/>
        </p:blipFill>
        <p:spPr>
          <a:xfrm>
            <a:off x="1835280" y="5013360"/>
            <a:ext cx="1320840" cy="1584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sp_logo_FF0000"/>
          <p:cNvPicPr/>
          <p:nvPr/>
        </p:nvPicPr>
        <p:blipFill>
          <a:blip r:embed="rId2"/>
          <a:stretch/>
        </p:blipFill>
        <p:spPr>
          <a:xfrm>
            <a:off x="3708360" y="5084640"/>
            <a:ext cx="208908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468360" y="404640"/>
            <a:ext cx="820728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Confessionalisme: christendemocrati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ntstaan in de tweede helft van de negentiende eeuw als tegenhanger van het liberalisme en later ook het socialisme die als heidens werden gez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Bijbelse waard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aastenliefde en verantwoordelijkheid voor de medemens staan centraal. Mens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oeten zorgvuldig met elkaar en de aarde omgaan (= rentmeesterschap)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gezin is de hoeksteen van de samenleving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lijk leven is van grote waarde en daardoor staan christen-democraten zee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uiverig t.o.v. abortus en euthanasi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Beperkte rol over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hristendemocraten zijn voorstanders van particuliere organisaties die zorgen v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aken als onderwijs, gezondheidszorg, kunst enz. De overheid dient de zwakkeren t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cher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iddenposi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ggen niet de nadruk op economische vrijheid (= liberaal) of financiële gelijkheid (=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aldemocratisch) maar op gezamenlijke verantwoordelijkheid van werkgevers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erknemers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DA, CU en SGP zijn voorbeelden hiervan waarbij CU en SGP erg Bijbelgericht zij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CDA-logo"/>
          <p:cNvPicPr/>
          <p:nvPr/>
        </p:nvPicPr>
        <p:blipFill>
          <a:blip r:embed="rId1"/>
          <a:stretch/>
        </p:blipFill>
        <p:spPr>
          <a:xfrm>
            <a:off x="468360" y="5445000"/>
            <a:ext cx="2448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sgp"/>
          <p:cNvPicPr/>
          <p:nvPr/>
        </p:nvPicPr>
        <p:blipFill>
          <a:blip r:embed="rId2"/>
          <a:stretch/>
        </p:blipFill>
        <p:spPr>
          <a:xfrm>
            <a:off x="3419640" y="5373720"/>
            <a:ext cx="1655640" cy="112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christenunie"/>
          <p:cNvPicPr/>
          <p:nvPr/>
        </p:nvPicPr>
        <p:blipFill>
          <a:blip r:embed="rId3"/>
          <a:stretch/>
        </p:blipFill>
        <p:spPr>
          <a:xfrm>
            <a:off x="5580000" y="5516640"/>
            <a:ext cx="309744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68360" y="620640"/>
            <a:ext cx="820728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s extremism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gens het rechts extremisme zijn niet alle mensen gelijkwaardi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Ongelijkwaardig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igen volk is superieur. Sommige rassen zijn beter dan anderen. Eigen volk eerst.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itenlanders zijn de schuld van ellende zoals werkeloosheid, criminaliteit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oningno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Gewel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Rechts extremisten schuwen geen geweld om hu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doel te bereik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31338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beelden van dit soort partijen in Nederland zij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NSB in de jaren 30 van de vorige eeuw, en d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D (Centrum Democraten) en de Volksunie aa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eind van de vorige eeu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centrum%20democraten-poster"/>
          <p:cNvPicPr/>
          <p:nvPr/>
        </p:nvPicPr>
        <p:blipFill>
          <a:blip r:embed="rId1"/>
          <a:srcRect l="0" t="0" r="0" b="17835"/>
          <a:stretch/>
        </p:blipFill>
        <p:spPr>
          <a:xfrm>
            <a:off x="639720" y="2538360"/>
            <a:ext cx="2952720" cy="3797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1" name="Picture 13" descr="220px-Wappen_NSB_1936-1945"/>
          <p:cNvPicPr/>
          <p:nvPr/>
        </p:nvPicPr>
        <p:blipFill>
          <a:blip r:embed="rId2"/>
          <a:stretch/>
        </p:blipFill>
        <p:spPr>
          <a:xfrm>
            <a:off x="5003640" y="4437000"/>
            <a:ext cx="20955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Jan van Gils</cp:lastModifiedBy>
  <dcterms:modified xsi:type="dcterms:W3CDTF">2014-06-27T14:07:39Z</dcterms:modified>
  <cp:revision>63</cp:revision>
  <dc:subject/>
  <dc:title>Dia 1</dc:title>
</cp:coreProperties>
</file>