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45C-75A5-4DC7-ACC7-291B312B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3C4-243D-45B2-A676-C13DA72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FF5-9C35-4C27-91CD-635CE0B3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6EF-8217-4CAD-BCA4-8C73439F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F69-9380-4672-AEAB-FA131DCC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D4A-3320-47D5-8D04-65A5D86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4C5-78C4-47C7-8BA8-7A252650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7F1-FF21-48D1-BCD6-CCE1C9D3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6D8-2FE2-44B0-8C5C-DACF2F34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4D8-754B-4633-9D8D-C7F5625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9C9-5295-4381-9AD6-316F709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3CC-8E19-46A2-A4AD-E560DBE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6D8-4B6E-4718-B4AE-29FA759F6B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3/Pol-landschap-2010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e partij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1 Kies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3.2 Soorten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f en passief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Nederlanders van achttien jaar en ouder hebben actief en pass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ct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te mogen stemmen.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sief kiesrech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is het recht om je verkiesbaar te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m de vier jaar kiezen de burgers van Nederland de nieuwe led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Tweede Ka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Provinciale Sta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De Gemeentera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naast zijn er elke vijf jaar verkiezingen voor he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uropees Par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politieke partij bestaat uit 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een groep mensen met ongeveer dezelfde ideeën over hoe de samenleving eruit zou moeten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ol van politiek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eke partijen proberen op allerlei manieren invloed uit te oefenen op het beleid van de overhe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brengen hu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standpunt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oortdurend naar v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ertegenwoordi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vaak de belangen van maatschappelijke organisaties en bepaalde groepen in de maatschappij. (VVD komt op voor de werkgevers en de SP voor de werknemer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 leveren mensen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voor politieke functie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(Ministers, burgemeesters, Kamerl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 </a:t>
            </a:r>
            <a:r>
              <a:rPr b="0" lang="nl-NL" sz="1600" spc="-1" strike="noStrike">
                <a:solidFill>
                  <a:srgbClr val="c00000"/>
                </a:solidFill>
                <a:latin typeface="Arial"/>
              </a:rPr>
              <a:t>beïnvloe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sen in politieke functies. Partijen hebben veel contact met hun eigen Kamerleden, gemeenteraadsleden, ministers, leden van het Europees parlement en Burgemee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nkse en rechtse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3"/>
          <p:cNvSpPr/>
          <p:nvPr/>
        </p:nvSpPr>
        <p:spPr>
          <a:xfrm>
            <a:off x="379440" y="985680"/>
            <a:ext cx="820728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rogressief of conservat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ogressief (vooruitstrev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reven naar verandering. Je wilt de samenleving beter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onservatief (behoudend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moet zo weinig mogelijk veranderen. Wat is moet blij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s, links of m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 (Vrij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zo weinig mogelijk overheidsbemoeienis en zoveel mogelijk vrijheid. Mens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oeten zelf hun verantwoordelijkheid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ssi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jn, zich zo min mogelijk bemoeien met het dagelijks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ven en d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Links (Gelijkheid)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il dat de staat zich met veel dingen actief bemoeit want de zwakkeren in de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menleving moeten worden beschermd. Zoveel mogelijk gelijkwaardigheid i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langr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57120"/>
                <a:tab algn="l" pos="161784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overheid moe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ctie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ijn, zich inzet voor de mensen in de samenlev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26920" y="620640"/>
            <a:ext cx="79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idd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Samen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mensen moeten het samen met de overheid doen. Sommige partijen hebben dus zowel linkse als rechtse standpunten. De overheid heeft een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anvullend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Bestand:Pol-landschap-2010.gif">
            <a:hlinkClick r:id="rId1"/>
          </p:cNvPr>
          <p:cNvPicPr/>
          <p:nvPr/>
        </p:nvPicPr>
        <p:blipFill>
          <a:blip r:embed="rId2"/>
          <a:srcRect l="0" t="0" r="0" b="1638"/>
          <a:stretch/>
        </p:blipFill>
        <p:spPr>
          <a:xfrm>
            <a:off x="395280" y="1989000"/>
            <a:ext cx="4535640" cy="446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059280" y="3141720"/>
            <a:ext cx="576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364000" y="2205000"/>
            <a:ext cx="33832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iernaast zie je een schema hoe je de belangrijkste politieke partijen van Nederland kunt indelen in progressief, rechts, conservatief en link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 iedereen houdt eenzelfde verdeling aan. Sommigen zien de PVV als meer rechts-conservatief als op de afbeelding hiernaast en de VVD minder conservatief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is dus maar net hoe je tegen de zaken aankijk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afbeelding op de volgende d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atrix-Politieke-Partijen"/>
          <p:cNvPicPr/>
          <p:nvPr/>
        </p:nvPicPr>
        <p:blipFill>
          <a:blip r:embed="rId1"/>
          <a:stretch/>
        </p:blipFill>
        <p:spPr>
          <a:xfrm>
            <a:off x="1258920" y="476280"/>
            <a:ext cx="62658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Ole de Vos</cp:lastModifiedBy>
  <dcterms:modified xsi:type="dcterms:W3CDTF">2016-02-18T09:59:38Z</dcterms:modified>
  <cp:revision>71</cp:revision>
  <dc:subject/>
  <dc:title>Dia 1</dc:title>
</cp:coreProperties>
</file>