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7EC-C638-41A5-B57A-EBCE057D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2AA-892D-4D8A-9862-73857057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C3A-77C5-43BA-83D0-ABE946B8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969-8378-48F9-B084-E94F77D6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C29-AFDC-473B-89A4-50CE2B1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A7D-2ED6-495F-A0EA-8A0ABF8F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24C-1E20-44B3-9021-2AB19C9B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762-C435-467E-BFDE-0EB5266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DF6-ACF1-4F8A-8B82-78D133B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B97-1A48-4C2A-8688-BE4D752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C07-27DA-49FE-B938-697005D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98B-BFDB-46BC-91B9-D764584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0DA-2835-4496-8367-AA69B22E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youtube.com/watch?v=2od1KTX0SoI&amp;feature=relate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1Hw3av8gjg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Het beleid van de overhei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5661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beleid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at kan de overheid doen om het aantal misdrijven omlaag te breng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4464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Beleid tegen crimin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terugdringen van criminaliteit is in principe e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weesporenbelei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Preven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voorko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Repre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beleid dat wil bestraff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789360"/>
            <a:ext cx="777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Welke overheden spelen hier een 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stellen wetten + bespreken van andere oplossi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meentelijke overhei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meester is verantwoordelijk voor de openbare orde en veiligheid. Hij is het hoofd van de poli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stitie bestaat uit het O.M. (Openbaar Ministerie), officier van justitie en politi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fficier van justitie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antwoordelijk voor opsporing en vervol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232000" cy="221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77774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leidsdaden van de over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leid van de overheid wat zich richt tegen criminaliteit is binnen het tweesporen beleid op te splitsen in zes onderde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ie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220920"/>
            <a:ext cx="7777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. Opspor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richt zich de laatste jaren vooral op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are 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iligheid en terr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797360"/>
            <a:ext cx="7777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volgingsbeleid = op welke manier wil de overheid misdrijven bestraff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elrecht (= lik op stuk beleid) bij b.v. voetbalvand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staan van softdrugs (= gedoogbel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04" t="0" r="4368" b="3704"/>
          <a:stretch/>
        </p:blipFill>
        <p:spPr>
          <a:xfrm>
            <a:off x="5148360" y="1773360"/>
            <a:ext cx="3024000" cy="251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76280"/>
            <a:ext cx="792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Vervolgingsbeleid 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el voorkomende criminal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op preventie (= voorkoming) en geldt vooral bv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vandalisme, winkeldiefstal en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l: Overlast op straat met 25% verminder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al werk- en/of leerstraffen worden toegepa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519200" cy="18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270828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aniseerde misd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nk aan: vrouwenhandel, drugshandel, helin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ruk ligt hier op repressie. (= bestraff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eurbestrij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rijding van bv. aanslagen en vliegtuigkaping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el: verruiming van bevoegdheden van politie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echaussee. (bv arrestatiemogelijkheid bij ver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cht gedra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156040" cy="230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00000" y="5373720"/>
            <a:ext cx="395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Wil de overheid ons waarschuwen, opvoeden of indoctrineren of zijn wij echt met z’n allen ver-antwoordelijk voor onze veiligheid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5734080"/>
            <a:ext cx="86508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9417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76280"/>
            <a:ext cx="79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.  Gevangenis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cell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bepaalde gevallen meer mensen in één c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2737080" cy="182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0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.  Nieuwe wetge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tboek  van Strafrecht moet regelmatig word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gepast aan de actualite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it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nieuwe wetgeving zal de overheid zich altijd afvragen of nieuwe maatregelen voldoende het gewenste effect oplev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selijkh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heid stelt zich de vraag of nieuwe maatregelen passen bij de waarden en normen van dit moment. De visie van burgers en politiek is dus van bel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292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.  Preventiebelei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zie hoofdstuk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797360"/>
            <a:ext cx="5327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6.  Jeugdbel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rpunten op het gebied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toezi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en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43700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4581360"/>
            <a:ext cx="1942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kijk het filmpje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ver jeugddeten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Kan zijn dat er eers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en reclamefilmpje kom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25T16:58:44Z</dcterms:modified>
  <cp:revision>56</cp:revision>
  <dc:subject/>
  <dc:title>Dia 1</dc:title>
</cp:coreProperties>
</file>