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9DF-04E8-4B25-9B5C-79F7D356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9D8-E43C-45C7-A2F1-0F37077C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BD6-D81A-4863-B77C-E01BE7BE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266-8E9B-4AD6-9F24-7F82A1CC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7FB-9BE6-4DFE-8DA6-91D66F5A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2E2-D7E7-4944-9702-B1DCCB41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226-3A88-42D3-B6D5-3EEEB90F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F2E-2DBD-4091-B0D4-FCC04F1C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9BB-9513-4AB6-B001-4193B334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9ED-24C5-41B7-9DDF-A47C2424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8E8-71F3-4F1E-B868-F542FDFF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F50-6DB2-4FB5-8973-5D2F5D3D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EC3E-FA4F-4043-995E-8D321FF4A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Preventi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7336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92720" y="566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324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052640"/>
            <a:ext cx="85327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dit hoofdstuk staat de volgen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elke maatregelen kunnen we nemen om criminaliteit te voorkomen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ieve maatregelen kunnen worden genomen do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andelijke overh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okale overh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drijv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141720"/>
            <a:ext cx="7777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andelijke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hiervoor hoofdstuk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eerpunten in het beleid zijn naast hetge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hoofdstuk 9 staat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lichting inbraakpreventie vooraf aan vakantieperiod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ntispijbelbele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5157720"/>
            <a:ext cx="7777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okale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ag naast de mogelijkheden die de landelijke wetgeving geeft onder bepaalde voorwaarden ook b.v preventief fouilleren, een blowverbod instellen voor een bepaald gebied ter bestrijding van overlast en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02240" y="1916280"/>
            <a:ext cx="22910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777744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Welke preventie maatregelen zijn 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ociale control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e controle leidt tot minder criminalitei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 zie bo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betering woonomgev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ettige woonomgeving leidt tot minder criminalitei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 zie bo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ALT-bureau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T (= Het Alternatief) richt zich op minderjarige daders bij lichte overtredingen of lichte misdrijven.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(taak)straf dient altijd in relatie te staan met de overtreding of het misdrijf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der krijgt notitie in strafbl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4149720"/>
            <a:ext cx="39607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drijven en burge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drijven en burgers kunnen zel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preventieve maatregelen nem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 vandalisme en inbraak te voorkom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beelden: zie bo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3568" r="2808" b="5045"/>
          <a:stretch/>
        </p:blipFill>
        <p:spPr>
          <a:xfrm>
            <a:off x="5867280" y="692280"/>
            <a:ext cx="2665440" cy="1539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2920" b="0"/>
          <a:stretch/>
        </p:blipFill>
        <p:spPr>
          <a:xfrm>
            <a:off x="1042920" y="4149720"/>
            <a:ext cx="2376720" cy="198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Naam</cp:lastModifiedBy>
  <dcterms:modified xsi:type="dcterms:W3CDTF">2012-03-13T08:50:25Z</dcterms:modified>
  <cp:revision>60</cp:revision>
  <dc:subject/>
  <dc:title>Dia 1</dc:title>
</cp:coreProperties>
</file>