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5C974-BBB2-4089-9F25-39DBE3B60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8E180-F5A9-42D2-89AA-015BE39AC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114CC-1297-4DA9-8A08-EBC6B888D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A23A8-3406-49A6-994A-70CC82E9A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30A1C-422F-4435-8E94-2C58B3899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66213-7CC4-4AA8-8F6B-5875F178C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9AA8A-12A2-403B-8BA7-591F7A5B2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D51A6-89C9-47B8-8432-AE3513CC9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9EE2C-79EB-49DD-ABCC-67CDEA903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F1FD5-7807-4BF7-A9C2-3780C777E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5F69B-13A5-41CE-993D-453E4CB25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389A2-1683-4F5A-8344-25D63BB1B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F9DB2-797E-4BB9-A444-6A032F9DBE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692280"/>
            <a:ext cx="70581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…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..LET OP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227640" y="620640"/>
            <a:ext cx="2625840" cy="2232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826920" y="1268280"/>
            <a:ext cx="52578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eze powerpoint gaat over de </a:t>
            </a:r>
            <a:r>
              <a:rPr b="1" i="1" lang="nl-NL" sz="1800" spc="-1" strike="noStrike" u="sng">
                <a:solidFill>
                  <a:srgbClr val="993300"/>
                </a:solidFill>
                <a:uFillTx/>
                <a:latin typeface="Arial"/>
              </a:rPr>
              <a:t>Knelpunten in de politie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26920" y="1916280"/>
            <a:ext cx="705816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De powerpoint bevat de basisstof die je moet </a:t>
            </a:r>
            <a:br>
              <a:rPr sz="1800"/>
            </a:br>
            <a:r>
              <a:rPr b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kennen om het centraal schriftelijk met succes </a:t>
            </a:r>
            <a:br>
              <a:rPr sz="1800"/>
            </a:br>
            <a:r>
              <a:rPr b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te kunnen make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26920" y="2852640"/>
            <a:ext cx="705816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org dus dat j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LL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goed kent en door hebt wat er in dez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taat.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geet niet ook het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BOE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e bestuderen/raadplegen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258920" y="3357720"/>
            <a:ext cx="741672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onder deze basiskennis is het maken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van inzichtvragen – die veel op het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examen voorkomen – onbegonne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werk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708360" y="4653000"/>
            <a:ext cx="4249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VEEL SUC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164360" y="6237360"/>
            <a:ext cx="158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ofdstuk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971640" y="3933720"/>
            <a:ext cx="2449440" cy="24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4"/>
          <p:cNvSpPr/>
          <p:nvPr/>
        </p:nvSpPr>
        <p:spPr>
          <a:xfrm>
            <a:off x="684360" y="476280"/>
            <a:ext cx="626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395280" y="836640"/>
            <a:ext cx="820908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534960"/>
                <a:tab algn="l" pos="1973160"/>
                <a:tab algn="l" pos="2330280"/>
                <a:tab algn="l" pos="4394160"/>
                <a:tab algn="l" pos="4840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entrale vraag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dit hoofdstuk staat de vraag centraal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534960"/>
                <a:tab algn="l" pos="1973160"/>
                <a:tab algn="l" pos="2330280"/>
                <a:tab algn="l" pos="4394160"/>
                <a:tab algn="l" pos="4840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00"/>
                </a:solidFill>
                <a:latin typeface="Arial"/>
              </a:rPr>
              <a:t>“</a:t>
            </a:r>
            <a:r>
              <a:rPr b="1" i="1" lang="en-US" sz="1600" spc="-1" strike="noStrike">
                <a:solidFill>
                  <a:srgbClr val="ff3300"/>
                </a:solidFill>
                <a:latin typeface="Arial"/>
              </a:rPr>
              <a:t>Wat zijn de knelpunten in de politiek en wat kunnen we er aan doen.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0"/>
          <p:cNvSpPr/>
          <p:nvPr/>
        </p:nvSpPr>
        <p:spPr>
          <a:xfrm>
            <a:off x="395280" y="1916280"/>
            <a:ext cx="81374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60360"/>
                <a:tab algn="l" pos="1347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Knelpunte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 ‘afstand’  tussen de burgers en de politiek en politici is groot.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orzaak zijn een aantal knelpunten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60360"/>
                <a:tab algn="l" pos="1347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2"/>
          <p:cNvSpPr/>
          <p:nvPr/>
        </p:nvSpPr>
        <p:spPr>
          <a:xfrm>
            <a:off x="395280" y="333360"/>
            <a:ext cx="74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16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Knelpunten in de politi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308720" y="6237360"/>
            <a:ext cx="136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ofdstuk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0"/>
          <p:cNvSpPr/>
          <p:nvPr/>
        </p:nvSpPr>
        <p:spPr>
          <a:xfrm>
            <a:off x="468360" y="2852640"/>
            <a:ext cx="81374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60360"/>
                <a:tab algn="l" pos="1347840"/>
                <a:tab algn="l" pos="3948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Macht bij minis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60360"/>
                <a:tab algn="l" pos="1347840"/>
                <a:tab algn="l" pos="3948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t parlement is door de burgers gekoze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 zou dus vanuit democratisch oogpu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 meeste macht moeten hebben. O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pier klopt het. In de praktijk zijn het t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ak de minister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0"/>
          <p:cNvSpPr/>
          <p:nvPr/>
        </p:nvSpPr>
        <p:spPr>
          <a:xfrm>
            <a:off x="539640" y="4653000"/>
            <a:ext cx="81378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60360"/>
                <a:tab algn="l" pos="1347840"/>
                <a:tab algn="l" pos="3497400"/>
                <a:tab algn="l" pos="3851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Regeerakkoord is bepalend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t regeerakkoord tussen de regerend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jen is in de praktijk bepalend. Discussi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ver onderwerpen die in dit akkoord staa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eft vaak weinig zin daar het besluit eigen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jk al vast staa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84360" y="3068640"/>
            <a:ext cx="2993760" cy="30970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4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10"/>
          <p:cNvSpPr/>
          <p:nvPr/>
        </p:nvSpPr>
        <p:spPr>
          <a:xfrm>
            <a:off x="395280" y="476280"/>
            <a:ext cx="79930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"/>
              <a:tabLst>
                <a:tab algn="l" pos="360360"/>
                <a:tab algn="l" pos="1347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Tegen de wil van het volk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Het parlement en/of de regering nemen beslissingen waar de meerderheid van het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volk het waarschijnlijk niet mee eens is. (b.v. deelname van Nederlandse militairen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aan de oorlog in Afghanistan)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"/>
              <a:tabLst>
                <a:tab algn="l" pos="360360"/>
                <a:tab algn="l" pos="1347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"/>
          <p:cNvSpPr/>
          <p:nvPr/>
        </p:nvSpPr>
        <p:spPr>
          <a:xfrm>
            <a:off x="395280" y="1628640"/>
            <a:ext cx="7993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"/>
              <a:tabLst>
                <a:tab algn="l" pos="360360"/>
                <a:tab algn="l" pos="1347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Problemen moeilijk oplosbaar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Wat de regering ook doet niet alles is makkelijk oplosbaar. Denk aan milieuproble-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matiek, het fileprobleem en de zeer hoge inkomens van sommige bestuurders/di-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recteur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0"/>
          <p:cNvSpPr/>
          <p:nvPr/>
        </p:nvSpPr>
        <p:spPr>
          <a:xfrm>
            <a:off x="395280" y="2708280"/>
            <a:ext cx="7993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"/>
              <a:tabLst>
                <a:tab algn="l" pos="360360"/>
                <a:tab algn="l" pos="1347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Weinig vertrouwen in de politiek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Door ingewikkelde regelgeving en bureaucratie (=  zaken moet met veel formu-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lieren, via veel instanties en dus lange wachttijden geregeld worden) is er weinig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vertrouwen in de politiek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684360" y="4005360"/>
            <a:ext cx="2519280" cy="23619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62" name="Text Box 10"/>
          <p:cNvSpPr/>
          <p:nvPr/>
        </p:nvSpPr>
        <p:spPr>
          <a:xfrm>
            <a:off x="0" y="3933720"/>
            <a:ext cx="81374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60360"/>
                <a:tab algn="l" pos="1347840"/>
                <a:tab algn="l" pos="3497400"/>
                <a:tab algn="l" pos="3851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uropa bepaal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eds meer zaken worden op Europe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iveau beslist. Het Nederlandse parlement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 de regering moeten zich hier aan houden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 burger krijgt zo het gevoel dat de politiek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m/haar niet serieus neem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308720" y="6237360"/>
            <a:ext cx="136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ofdstuk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1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4"/>
          <p:cNvSpPr/>
          <p:nvPr/>
        </p:nvSpPr>
        <p:spPr>
          <a:xfrm>
            <a:off x="684360" y="476280"/>
            <a:ext cx="626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0"/>
          <p:cNvSpPr/>
          <p:nvPr/>
        </p:nvSpPr>
        <p:spPr>
          <a:xfrm>
            <a:off x="468360" y="476280"/>
            <a:ext cx="8137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60360"/>
                <a:tab algn="l" pos="1347840"/>
                <a:tab algn="l" pos="1792440"/>
                <a:tab algn="l" pos="4572000"/>
                <a:tab algn="l" pos="4840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erbetering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60360"/>
                <a:tab algn="l" pos="1347840"/>
                <a:tab algn="l" pos="1792440"/>
                <a:tab algn="l" pos="4572000"/>
                <a:tab algn="l" pos="4840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oor een democratie is belangrijk dat mensen betrokken zijn bij de politiek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60360"/>
                <a:tab algn="l" pos="1347840"/>
                <a:tab algn="l" pos="1792440"/>
                <a:tab algn="l" pos="4572000"/>
                <a:tab algn="l" pos="4840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e verbeter je het democratisch proces?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08720" y="6237360"/>
            <a:ext cx="136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ofdstuk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0"/>
          <p:cNvSpPr/>
          <p:nvPr/>
        </p:nvSpPr>
        <p:spPr>
          <a:xfrm>
            <a:off x="468360" y="1413000"/>
            <a:ext cx="7993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"/>
              <a:tabLst>
                <a:tab algn="l" pos="360360"/>
                <a:tab algn="l" pos="1347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ferendum</a:t>
            </a:r>
            <a:br>
              <a:rPr sz="1600"/>
            </a:b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= burgers vragen over hun mening over een bepaald onderwerp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0"/>
          <p:cNvSpPr/>
          <p:nvPr/>
        </p:nvSpPr>
        <p:spPr>
          <a:xfrm>
            <a:off x="468360" y="2060640"/>
            <a:ext cx="7993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60360"/>
                <a:tab algn="l" pos="714240"/>
                <a:tab algn="l" pos="1347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Voordelen</a:t>
            </a: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	</a:t>
            </a:r>
            <a:br>
              <a:rPr sz="1600"/>
            </a:b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iezers hebben directe invloed op het besluit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an heeft bij aanvaarding steun van veel mensen (= draagval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0"/>
          <p:cNvSpPr/>
          <p:nvPr/>
        </p:nvSpPr>
        <p:spPr>
          <a:xfrm>
            <a:off x="468360" y="2852640"/>
            <a:ext cx="7993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60360"/>
                <a:tab algn="l" pos="714240"/>
                <a:tab algn="l" pos="1347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Nadelen</a:t>
            </a: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	</a:t>
            </a:r>
            <a:br>
              <a:rPr sz="1600"/>
            </a:b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sluitvorming duurt langer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litici staan (tijdelijk) buiten spel. Aantasting van hun positie en aanzien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derwerpen waarover moet worden besloten zijn vaak moeilijk e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gewikkeld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t leidt tot te simpele keuz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5003640" y="4076640"/>
            <a:ext cx="3095640" cy="20685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71" name="Text Box 10"/>
          <p:cNvSpPr/>
          <p:nvPr/>
        </p:nvSpPr>
        <p:spPr>
          <a:xfrm>
            <a:off x="539640" y="4508640"/>
            <a:ext cx="7993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60360"/>
                <a:tab algn="l" pos="714240"/>
                <a:tab algn="l" pos="1347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n Nederland werd op 1 juni 2005 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60360"/>
                <a:tab algn="l" pos="714240"/>
                <a:tab algn="l" pos="1347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aadgevend referendum gehouden over </a:t>
            </a:r>
            <a:br>
              <a:rPr sz="1600"/>
            </a:b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de vraag of er een Europese grondwet</a:t>
            </a:r>
            <a:br>
              <a:rPr sz="1600"/>
            </a:b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moest komen.</a:t>
            </a:r>
            <a:br>
              <a:rPr sz="1600"/>
            </a:b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61,5% van de kiezers bleek tegen te</a:t>
            </a:r>
            <a:br>
              <a:rPr sz="1600"/>
            </a:b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hebben gestemd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2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4"/>
          <p:cNvSpPr/>
          <p:nvPr/>
        </p:nvSpPr>
        <p:spPr>
          <a:xfrm>
            <a:off x="684360" y="476280"/>
            <a:ext cx="626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0"/>
          <p:cNvSpPr/>
          <p:nvPr/>
        </p:nvSpPr>
        <p:spPr>
          <a:xfrm>
            <a:off x="468360" y="476280"/>
            <a:ext cx="8137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60360"/>
                <a:tab algn="l" pos="1347840"/>
                <a:tab algn="l" pos="1792440"/>
                <a:tab algn="l" pos="4572000"/>
                <a:tab algn="l" pos="4840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emplic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60360"/>
                <a:tab algn="l" pos="1347840"/>
                <a:tab algn="l" pos="1792440"/>
                <a:tab algn="l" pos="4572000"/>
                <a:tab algn="l" pos="4840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nsen wettelijk verplichten bij verkiezingen hun stem uit te brengen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308720" y="6237360"/>
            <a:ext cx="136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ofdstuk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0"/>
          <p:cNvSpPr/>
          <p:nvPr/>
        </p:nvSpPr>
        <p:spPr>
          <a:xfrm>
            <a:off x="468360" y="1052640"/>
            <a:ext cx="7993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"/>
              <a:tabLst>
                <a:tab algn="l" pos="360360"/>
                <a:tab algn="l" pos="1347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Regionale kandidaatstelling verplichten</a:t>
            </a: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	</a:t>
            </a:r>
            <a:br>
              <a:rPr sz="1600"/>
            </a:b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nneer een Tweede Kamerlid uit de eigen omgeving komt is heeft hij meer kan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 mensen hem/haar kennen en dit kan de betrokkenheid van de burger bij d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litiek vergroten.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Zo’n Kamerlid die in een landelijk parlement wordt gekozen voelt zich verplicht om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oor de belangen van zijn regio op te komen. (zowel voordeel als nade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0"/>
          <p:cNvSpPr/>
          <p:nvPr/>
        </p:nvSpPr>
        <p:spPr>
          <a:xfrm>
            <a:off x="468360" y="2708280"/>
            <a:ext cx="7993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60360"/>
                <a:tab algn="l" pos="714240"/>
                <a:tab algn="l" pos="1347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Door het volk gekozen minister-president en burgemeester</a:t>
            </a: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	</a:t>
            </a:r>
            <a:br>
              <a:rPr sz="1600"/>
            </a:b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kozen bestuurders staan dichter bij het volk.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t Nederlandse politieke systeem is moeilijk te combineren met een gekoze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inister-presiden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0"/>
          <p:cNvSpPr/>
          <p:nvPr/>
        </p:nvSpPr>
        <p:spPr>
          <a:xfrm>
            <a:off x="468360" y="3860640"/>
            <a:ext cx="79930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60360"/>
                <a:tab algn="l" pos="714240"/>
                <a:tab algn="l" pos="1347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regulere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inder laten beslissen door de rijksoverheid en meer door de lagere overheden.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= gemeente en provincie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t kan leiden tot meer maatwerk (voordeel) en verschillende regelgeving pe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meente (nadeel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0"/>
          <p:cNvSpPr/>
          <p:nvPr/>
        </p:nvSpPr>
        <p:spPr>
          <a:xfrm>
            <a:off x="468360" y="5300640"/>
            <a:ext cx="7993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60360"/>
                <a:tab algn="l" pos="714240"/>
                <a:tab algn="l" pos="1347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er bevoegdheden voor ‘t parle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inder vooraf vastleggen in het regeerakkoord en parlement meer late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slissen.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amerleden laten ondersteunen door ambtenaren en deskundigen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0"/>
          <p:cNvSpPr/>
          <p:nvPr/>
        </p:nvSpPr>
        <p:spPr>
          <a:xfrm>
            <a:off x="468360" y="1052640"/>
            <a:ext cx="7993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"/>
              <a:tabLst>
                <a:tab algn="l" pos="360360"/>
                <a:tab algn="l" pos="1347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gionale kandidaatstelling verplichten</a:t>
            </a: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	</a:t>
            </a:r>
            <a:br>
              <a:rPr sz="1600"/>
            </a:b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nneer een Tweede Kamerlid uit de eigen omgeving komt is heeft hij meer kan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 mensen hem/haar kennen en dit kan de betrokkenheid van de burger bij d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litiek vergroten.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Zo’n Kamerlid die in een landelijk parlement wordt gekozen voelt zich verplicht om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oor de belangen van zijn regio op te komen. (zowel voordeel als nade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0"/>
          <p:cNvSpPr/>
          <p:nvPr/>
        </p:nvSpPr>
        <p:spPr>
          <a:xfrm>
            <a:off x="468360" y="2708280"/>
            <a:ext cx="7993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60360"/>
                <a:tab algn="l" pos="714240"/>
                <a:tab algn="l" pos="1347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or het volk gekozen minister-president en burgemeester</a:t>
            </a: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	</a:t>
            </a:r>
            <a:br>
              <a:rPr sz="1600"/>
            </a:b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kozen bestuurders staan dichter bij het volk.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t Nederlandse politieke systeem is moeilijk te combineren met een gekoze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inister-presiden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5" descr="einde-toets_2394275"/>
          <p:cNvPicPr/>
          <p:nvPr/>
        </p:nvPicPr>
        <p:blipFill>
          <a:blip r:embed="rId1"/>
          <a:srcRect l="30948" t="31377" r="29982" b="27682"/>
          <a:stretch/>
        </p:blipFill>
        <p:spPr>
          <a:xfrm>
            <a:off x="2771640" y="1628640"/>
            <a:ext cx="302436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5" dur="250" autoRev="1" fill="hold"/>
                                        <p:tgtEl>
                                          <p:spTgt spid="8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500"/>
                            </p:stCondLst>
                            <p:childTnLst>
                              <p:par>
                                <p:cTn id="127" nodeType="afterEffect" fill="hold" presetClass="emph" presetID="26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9" dur="250" autoRev="1" fill="hold"/>
                                        <p:tgtEl>
                                          <p:spTgt spid="8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500"/>
                            </p:stCondLst>
                            <p:childTnLst>
                              <p:par>
                                <p:cTn id="131" nodeType="afterEffect" fill="hold" presetClass="emph" presetID="26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3" dur="250" autoRev="1" fill="hold"/>
                                        <p:tgtEl>
                                          <p:spTgt spid="8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29T18:07:09Z</dcterms:created>
  <dc:creator>jan van gils</dc:creator>
  <dc:description/>
  <dc:language>en-US</dc:language>
  <cp:lastModifiedBy>jan van gils</cp:lastModifiedBy>
  <dcterms:modified xsi:type="dcterms:W3CDTF">2012-12-26T16:22:00Z</dcterms:modified>
  <cp:revision>52</cp:revision>
  <dc:subject/>
  <dc:title>Dia 1</dc:title>
</cp:coreProperties>
</file>