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BD9-3177-4AC1-9381-38560562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6C4-E567-4570-8C56-01F8716A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BF2-5DCB-437D-A59D-9A4890D7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E5D-6268-4D40-A143-3AC03DE8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F6C-FC40-4F1C-AEA5-8ED9E0E5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0A4-76BD-4A3C-A489-180D75B6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F8A-04AC-4357-AFC6-196FEF67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625-B3E0-4213-9B60-6E4E1502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499-2AD3-4F7B-B0FF-6FCCD405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077-FF90-4F69-A45B-EEFDB67C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837-A487-4894-9726-EAB262D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0EF-AC87-4C87-A146-C95AA3F6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9ED1-F7B4-4D01-826A-FF3E9159F0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576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Nederland; rechts-staat en democ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3876840"/>
            <a:ext cx="209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345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staat waarin de overheid is ge-bonden aan wettelijke regels die door het parlement zijn goedge-keu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aatvorm waarbij alle burgers in-vloed hebben op de besluitvor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95280" y="3068640"/>
            <a:ext cx="84978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rechtsstaat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en is gelijk voor de we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 inwoners hebben op d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elfde manier invloed op d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raag hoe het land moet wo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n geregeerd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onafhankelijke rechterlijke mach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grondwet die aangeeft hoe burgers en overheid met elkaar moeten omg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derland; rechtsstaat en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895640" cy="3106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468360" y="515772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chten en plichten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rechten. Het recht geeft aan wat je mag doen. (b.v. vrijheid v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ningsuiting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edere burger heeft plichten. (b.v. belasting betal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8000" y="549360"/>
            <a:ext cx="396072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(In)directe democ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tekent dat via het uitbrengen van stemmen door alle burgers van een land, besluiten worden genomen (= referendum) In de praktijk las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aarom hebben wij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indirecte democra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Wij kiezen mensen in b.v. de gemeenteraad en de Tweede Kamer die namens ons beslissingen nemen over allerlei za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95280" y="3645000"/>
            <a:ext cx="8497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parlementaire democratie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at namens het volk beslis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rlement ontstaat door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rije en geheime verkiezin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= alleen jij beslist waar je op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temt en niemand kan weten waar jij op stemt als jij dat niet geheim wil houden)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nafhankelijke rechterlijke mach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we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die aangeeft hoe burgers en overheid met elkaar moeten omgaa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wat de politici wel en niet mog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regering mo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antwoording aflegg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aan het parlement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wordt beslist met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meerderheid van stemmen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hebben 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ondrechten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Trias-politica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s van toepassing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68360" y="549360"/>
            <a:ext cx="8497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gers van 18 jaar en ouder hebben passie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ctief kiesre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68360" y="162864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gekozen te mogen word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242100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ef kiesrec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 recht om te mogen kiez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43477" b="0"/>
          <a:stretch/>
        </p:blipFill>
        <p:spPr>
          <a:xfrm>
            <a:off x="5003640" y="692280"/>
            <a:ext cx="3672000" cy="4286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468360" y="5516640"/>
            <a:ext cx="35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rias-politica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ie powerpoint bij hoofdstuk 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04Z</dcterms:modified>
  <cp:revision>37</cp:revision>
  <dc:subject/>
  <dc:title>Dia 1</dc:title>
</cp:coreProperties>
</file>