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C10F-0C13-417E-9EA7-ED568402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40CA-1B77-469C-9EE4-08FBBAFC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2ABC-3B0B-4B15-89B3-2118E9EA9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D48A-5125-464B-A649-A20069979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A882-34D7-4744-B42C-86B3EAE7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22C9-2A75-452A-AA55-8D83756C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FE03-07FD-4F59-AB60-E5543094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1E90-BBE2-45DD-B6B8-93C5411F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50DE-74F1-4A38-A9A9-F0037B38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5F7E-5409-4333-9D43-8ED4AD3A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459D-21B5-4667-AF8D-A4C1F859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A001-ADE5-4020-AD0C-E2F61831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45D7-71F6-45A6-8F17-773C61C3B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Ons beeld van </a:t>
            </a:r>
            <a:br>
              <a:rPr sz="1800"/>
            </a:b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criminaliteit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8900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997360"/>
            <a:ext cx="7058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350028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494172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4005360"/>
            <a:ext cx="3167280" cy="2313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9640" y="549360"/>
            <a:ext cx="59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ns beeld van crimina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1197000"/>
            <a:ext cx="8532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e betrouwbaar is ons beeld van criminaliteit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egenomen gevoelens van onveiligheid omdat media veel aandacht besteden aan criminalite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it: Inbraken, diefstal en fraude komen meer voor dan geweldsmisdrijv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285264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292428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te invloed van de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940360" y="2852640"/>
            <a:ext cx="2505240" cy="3229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611280" y="3284640"/>
            <a:ext cx="46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dia kunnen beeldvorming lat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ntstaan. Een aantal Marokkanen zij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rimineel dus alle Marokkanen zijn cri-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ineel.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= voorbeeld van stereoty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4653000"/>
            <a:ext cx="46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eggen de media vaak dat we strenger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oeten straffen dan neemt een groot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el van de bevolking dit over. (= pu-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ieke opin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549360"/>
            <a:ext cx="85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eken brengen criminaliteit in beel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285264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429264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lachtofferenquêt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S vraagt mensen of ze slachtoffer zijn gewees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uit blijkt dat er meer delicten zijn dan wat blijkt uit politiestatistiek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37372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aderenquêt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S vraagt mensen of ze dader zijn gewees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rouwbaarheid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981000"/>
            <a:ext cx="85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al Bureau van de Statistiek (CBS) maakt gebruik v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413000"/>
            <a:ext cx="85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Politiestatistiek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olitiestatistieken geven geen betrouwbaar beeld van criminaliteit omdat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angiftebereidheid van slachtoffers en instanties niet altijd even groot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iet alle delicten worden ontdekt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psporingsbeleid van politie heeft invloed op ontdekte misdrijv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hoeveel tijd wordt er aan opsporing besteed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richt de politie zich al of niet op bepaalde (bevolkings)groep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gistratie is mensenwerk; dus fouten worden gemaakt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olitiestatistieken moeten gekoppeld worden aan ontwikkeling va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vol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285264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773360"/>
            <a:ext cx="82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aantal vermogensdelicten is sinds 1984 gedaal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620640"/>
            <a:ext cx="85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moeten onderscheid maken tusse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ntal gepleegde misdrijven (= absolute cijfer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ntal gepleegde misdrijven per honderd inwoners (= percent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2276640"/>
            <a:ext cx="82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weld is de laatste 20 jaar in Nederland toegenom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16000" y="3213000"/>
            <a:ext cx="619128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jan van gils</cp:lastModifiedBy>
  <dcterms:modified xsi:type="dcterms:W3CDTF">2012-02-05T15:57:00Z</dcterms:modified>
  <cp:revision>39</cp:revision>
  <dc:subject/>
  <dc:title>Dia 1</dc:title>
</cp:coreProperties>
</file>