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1D1E-20C9-44A8-B1E9-8C940BA0009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CF3E-5BD0-4EE2-B199-F4CDFF04BBF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3190-E5C3-4134-B25E-35701E3745D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9924-592D-41A7-AD40-DF3681B7000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ED7-3B82-4EAC-A48C-2F2A1CB6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BCE-ED91-4A0B-BA27-058F8D0D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4E8-50D1-4EB1-9646-AAB65A1D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2BD-145D-4A51-887A-3CA76791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35F-B402-4005-B300-4052DBB3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163-A6B1-469C-8D72-89AC102E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312-A54C-49C1-94F3-CB627865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924-DE17-48DE-BCE8-21E2794A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30A-5D06-411C-832A-A575D653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EDA-6CB3-4A79-9099-04A749B2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78C4-04F2-49E3-8739-0A9A0EAF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89D-20C3-4E0C-917A-DACC605B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BB1F-332A-416B-BB82-43495D0E47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Regels en 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recht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40328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3245040" cy="192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Text Box 12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Regels en 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39640" y="11970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riminaliteit</a:t>
            </a:r>
            <a:br>
              <a:rPr sz="1800"/>
            </a:br>
            <a:r>
              <a:rPr b="1" i="1" lang="nl-NL" sz="1800" spc="-1" strike="noStrike">
                <a:solidFill>
                  <a:srgbClr val="ff0000"/>
                </a:solidFill>
                <a:latin typeface="Arial"/>
              </a:rPr>
              <a:t>Alle vormen van gedrag die volgens de wet strafbaar zij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2060640"/>
            <a:ext cx="806436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gels en recht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els en rechten zijn omschreven in wet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rondwet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de grondwet staan de basisregels van onze democratie beschrev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ze grondrechten als burgers en de manier waarop onze staat is ge-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ee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ndere wett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ere wetten mogen nooit in strijd zijn met de grondwe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-  Wetboek van Strafre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Opiumw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egenverkeersw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et economische delic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446040"/>
                <a:tab algn="l" pos="188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549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55640" y="112536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gels veranderen door de tijd he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eger was homoseksualiteit strafbaar, nu niet meer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eger was het inbreken in iemand anders zijn computer ni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afbaar. Er bestonden immers geen computers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dentificatieplicht is er pas sinds 2005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84360" y="5013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gels verschillen per plaats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Nederland is het  homohuwelijk toegestaan maar in veel landen niet.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uurwapens zijn voor bijna iedereen in Nederland verboden in de V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s het een grondrecht om een wapen te mogen bezitten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verboden-toegang_groot"/>
          <p:cNvPicPr/>
          <p:nvPr/>
        </p:nvPicPr>
        <p:blipFill>
          <a:blip r:embed="rId1"/>
          <a:stretch/>
        </p:blipFill>
        <p:spPr>
          <a:xfrm>
            <a:off x="2050920" y="2781360"/>
            <a:ext cx="4392720" cy="1830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684360" y="549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e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84360" y="1197000"/>
            <a:ext cx="7777080" cy="43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534960"/>
                <a:tab algn="l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chtsstaa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at waarin de burgers worden be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chermd tegen machtsmisbruik 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llekeur door de overh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534960"/>
                <a:tab algn="l" pos="268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Nederland is een rechtsstaat wan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n en plichten van de burger liggen vast in de (grond)we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overheid zorgt voor rechtshandhaving en rechtsbeschermin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is een democratisch gekozen parlemen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is scheiding van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wetgevende m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uitvoerende m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 rechterlijke macht</a:t>
            </a:r>
            <a:br>
              <a:rPr sz="18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Opmerking: In Nederland is de scheiding tussen wetgevende en uitvoerende macht niet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volledig doorgevoerd. Dit beperkt onze democratische rechten echter niet. Zie ook de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owerPoint  ‘Staat en regering’.</a:t>
            </a:r>
            <a:br>
              <a:rPr sz="1400"/>
            </a:br>
            <a:br>
              <a:rPr sz="4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spraak opereert onafhankelijk van de over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rechtsstaat"/>
          <p:cNvPicPr/>
          <p:nvPr/>
        </p:nvPicPr>
        <p:blipFill>
          <a:blip r:embed="rId1"/>
          <a:srcRect l="14789" t="27624" r="12900" b="18081"/>
          <a:stretch/>
        </p:blipFill>
        <p:spPr>
          <a:xfrm>
            <a:off x="5003640" y="765000"/>
            <a:ext cx="3168720" cy="155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7667640" y="638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Ole de Vos</cp:lastModifiedBy>
  <dcterms:modified xsi:type="dcterms:W3CDTF">2014-09-08T08:48:02Z</dcterms:modified>
  <cp:revision>45</cp:revision>
  <dc:subject/>
  <dc:title>Dia 1</dc:title>
</cp:coreProperties>
</file>