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894-0F4E-4C49-B2EB-D50F46EE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188-1C48-44F4-B8BB-FA07A099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BB3-F267-400E-867F-38E1759C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911-AE35-4689-925F-874DB3A8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669-D04F-4CFB-9AF0-085CA2D0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592-41C8-4E5D-A4CE-6DC0713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1FE-2184-49AB-94FB-82D029BD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34F-B6FA-4395-B0D2-CE7521D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9C9-C026-4045-84A4-440B5F3D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37B-E7A6-4BB9-A4AA-83E0F1D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1D6-A9EC-47B2-B196-5B609E16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6C1-50E6-46A9-B3EC-FE4EE21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BE77-EABA-4C90-AE69-DBB4C587F9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Linkse en rechtse partij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42483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vragen zijn:</a:t>
            </a:r>
            <a:br>
              <a:rPr sz="1600"/>
            </a:br>
            <a:r>
              <a:rPr b="1" lang="nl-NL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nneer noemen we een politieke partij rechts of links en conservatief of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 progressief?”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2.  “Welke politieke partijen zijn er in Nederl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oor een antwoord op vraag 2 zie de powerpoint van hoofdstuk 4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637000"/>
            <a:ext cx="820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hts links conservatief progres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h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 in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rvat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ie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ven naar veran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Bestand:Pol-landschap-2010.gif"/>
          <p:cNvPicPr/>
          <p:nvPr/>
        </p:nvPicPr>
        <p:blipFill>
          <a:blip r:embed="rId1"/>
          <a:srcRect l="0" t="0" r="0" b="1638"/>
          <a:stretch/>
        </p:blipFill>
        <p:spPr>
          <a:xfrm>
            <a:off x="611280" y="549360"/>
            <a:ext cx="4319640" cy="42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10:56:40Z</dcterms:modified>
  <cp:revision>64</cp:revision>
  <dc:subject/>
  <dc:title>Dia 1</dc:title>
</cp:coreProperties>
</file>