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3E5-E852-41D3-B361-98901FCA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8B89-24E5-4A3A-8358-BC6645B0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0B4-CF5E-4696-9397-4375B6D5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1BD-4834-4BFB-A750-7192657A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4EF2-4ADF-4483-B276-2B8C1790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213E-B9AA-4A83-8560-2678688A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7DB5-0ACD-45ED-86F1-E3445F8F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7010-BEF7-431D-B0C0-C627FB5A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3EE-2FA2-4341-9332-3268FBB1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89B5-AA52-4761-A919-1F043727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CE49-CF3C-46A6-87F3-06D8C471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0159-D1B5-40DA-931E-FE41EB8E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5464-61A7-4C80-A2B3-2288403F0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50816_supportersgeweld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Van politie naar 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offici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3068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42900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869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3311640" cy="2208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n politie naar offic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11280" y="1052640"/>
            <a:ext cx="80643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ofdvraag van dit hoofdstuk: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lke procedure moet worden gevolgd als er een strafbaar feit is geconsta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n van de polit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taa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lpverleningstaa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sporingstaa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nstverlening en advi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419640" y="4076640"/>
            <a:ext cx="5545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lain"/>
              <a:tabLst>
                <a:tab algn="l" pos="26820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t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820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e heeft speciale bevoegdheden als het ga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het handhaven van de or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mand verplichten door te lope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roleren op wettelijk verplichte papiere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keure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en nodig geweld gebrui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820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6" descr="dyn007_original_230_230_gif_2616433_045200ad0f6ddc4359e05e37fcbfbe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508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219640" y="1916280"/>
            <a:ext cx="1822680" cy="203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539640" y="549360"/>
            <a:ext cx="8064720" cy="65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ulpverleningst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weg wijzen, verloren kinderen opsporen enz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psporingstaak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(bij strafbare feit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emand staande mogen houden (= naam en adres vragen)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ouiller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houden (= arrester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sthouden (= in bureaucel opsluiten)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slagleggen (bv. Van gestolen goeder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iszoeking do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es uur vasthouden voor verhoor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n 2x drie dagen verlengd worden door de officier van justitie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og langer vasthouden kan met toestemming van de rechter-commis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ri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voegdheden van de politie staan precies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mschreven om de rechten van de burgers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 bescher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468360" y="404640"/>
            <a:ext cx="8064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rafbare feiten voorkomen zoals waarschuwen voor zakkenrollers maar ook fietsen grav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Dienstverlening en advies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vies geven hoe b.v. inbraak kan voorkom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keer regelen bij bv. een verkeersongelu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6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6804000" y="1844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4360" y="270828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inbreker wordt opgepakt en dan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4797360"/>
            <a:ext cx="93528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4653000"/>
            <a:ext cx="1224000" cy="580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lpofficier van justi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4653000"/>
            <a:ext cx="1440000" cy="580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ter-commiss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4797360"/>
            <a:ext cx="136872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t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661000"/>
            <a:ext cx="1657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uren + na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589720"/>
            <a:ext cx="172908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3 dagen + 3 da-gen verlen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5734080"/>
            <a:ext cx="10796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 d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08720" y="5734080"/>
            <a:ext cx="13687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x 30 d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515772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522936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360" y="522936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56720" y="515772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24000" y="494172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7280" y="494172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501336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933720"/>
            <a:ext cx="1008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h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3933720"/>
            <a:ext cx="2303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zekeringst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3933720"/>
            <a:ext cx="2017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bewaringst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48360" y="3933720"/>
            <a:ext cx="1979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vangenhou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4292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956720" y="4292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4000" y="328464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e lang kun je vastgehouden wor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539640" y="404640"/>
            <a:ext cx="806472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ier van justitie  (= openbare aankla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712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ekt namens de samenleving bewijzen tegen de verdachte (= openba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nklager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t straf tegen de verdachte tijdens het proc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e officieren van justitie = Openbaar Ministerie (OM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ndverantwoordelijke voor het OM is de Minister van Justit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32928" t="0" r="22699" b="0"/>
          <a:stretch/>
        </p:blipFill>
        <p:spPr>
          <a:xfrm>
            <a:off x="468360" y="2852640"/>
            <a:ext cx="1946160" cy="2459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250920" y="5300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Ivo Opstelten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Min. van Justitie (VV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2997360"/>
            <a:ext cx="5905440" cy="307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tie constateert strafbaar feit en stelt een proces verbaal 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3573360"/>
            <a:ext cx="5904000" cy="307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.l.v. officier van justitie volgt opsporingsonderzoek door poli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87640" y="4149720"/>
            <a:ext cx="50418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ier van justitie beslist of er een rechtszaak kom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3357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5164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4724280"/>
            <a:ext cx="439272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ier van justitie eist straf tijdens rechtszaa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4508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5300640"/>
            <a:ext cx="244944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hter doet uitspraak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32000" y="5877000"/>
            <a:ext cx="489744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ier van justitie zorgt dat straf wordt uitgevoer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1640" y="5084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56610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67280" y="2421000"/>
            <a:ext cx="302580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loop van een strafz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539640" y="549360"/>
            <a:ext cx="8064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 of niet naar de rec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en opsporingsonderzoek wordt een dossier aangelegd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ar aanleiding van het dossier zijn er drie mogelijkhe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poner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betekent dat er wordt afgezien van verdere rechtsvervol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ik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vindt geen verdere vervolging plaats wanneer de verdachte een bepaalde geldboete wil beta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80316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volg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zaak komt voor de rech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24360" y="4005360"/>
            <a:ext cx="3094200" cy="2070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6" descr="dyn007_original_230_230_gif_2616433_045200ad0f6ddc4359e05e37fcbfbe38"/>
          <p:cNvPicPr/>
          <p:nvPr/>
        </p:nvPicPr>
        <p:blipFill>
          <a:blip r:embed="rId2"/>
          <a:stretch/>
        </p:blipFill>
        <p:spPr>
          <a:xfrm>
            <a:off x="611280" y="4292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00360" y="4508640"/>
            <a:ext cx="2449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rechtsgang en wat er voor de rechter gebeu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 naar het filmp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09T19:14:40Z</dcterms:modified>
  <cp:revision>51</cp:revision>
  <dc:subject/>
  <dc:title>Dia 1</dc:title>
</cp:coreProperties>
</file>